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16.jpeg" ContentType="image/jpeg"/>
  <Override PartName="/ppt/media/image1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png" ContentType="image/png"/>
  <Override PartName="/ppt/media/whoosh.wav" ContentType="audio/x-wav"/>
  <Override PartName="/ppt/media/image9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C509-8F94-446B-B468-8866B06301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F162-22DA-4A87-AE85-5A0170C521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60C5-AE9E-45E1-A8AC-F7EDDD874D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5037-8F8C-4F5D-B06F-A05FABF3F8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777-6FAF-4970-A5F6-AA222F642C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A21D-40B5-4826-88E8-C7A8627ADA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CB5E-5CEE-4275-8214-ECD0C743FF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7C5-C434-4F5D-9875-0EFCA181AD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07E8-59BD-43C1-B011-F9A893834E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0A3C-2910-410E-AF80-B2C96D8D77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C68-E6E1-4D13-B00E-8F19FDFD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E5F-607E-4D5B-8161-EEB45492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D8D-906E-49DC-95DF-ADFB451D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C6F-ACEB-49BD-9E3F-E814C953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EF2B-A12F-4513-BA7E-F98F6BF3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433D-E65B-4D45-9FB5-74F2ECE9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5A9B-B286-4BC9-B016-E309A17E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048D-7887-4339-8031-C83210EB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CC22-5491-46BF-9624-60534FF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1A3-8538-475B-9709-2A53D778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5802-DB58-452B-AFFB-CB84D8DA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0CB-7E92-4FA2-8BFB-6A325014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C101-3443-455F-8C8C-F244E377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46F1-12EA-4FE7-BB3E-8819AA5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F63B-6CD6-4976-A7F8-7472AF0D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442A-58CE-4B89-B764-14E2FEC6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721E-2451-4405-8573-0992F3B6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439-79B0-42F5-8662-A340CD4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52E-FAA4-477C-A750-DC69CF9F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413-6939-4F81-BBE2-B569DCF4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003-9B9F-4026-BE13-2E462F0E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23B-AE65-48D6-A9F7-2C5ED75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07E-C76E-4FB4-B14D-1CD86726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ACF-097D-426F-B9F6-3E9F97F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3E83-F71C-4216-8B32-371CB8622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9D9-ABE1-417E-B033-EAD1EA326296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irishstatutebook.ie/1996/en/act/pub/0016/print.html" TargetMode="External"/><Relationship Id="rId2" Type="http://schemas.openxmlformats.org/officeDocument/2006/relationships/hyperlink" Target="http://www.irishstatutebook.ie/1996/en/act/pub/0016/print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Working Lif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Employers &amp; Employe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1116000" y="580536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Tahoma"/>
              </a:rPr>
              <a:t>Prepared by Rachel Farre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http://www.firehouse.com/cartoon/2006/combs_maymag.jpg"/>
          <p:cNvPicPr/>
          <p:nvPr/>
        </p:nvPicPr>
        <p:blipFill>
          <a:blip r:embed="rId2"/>
          <a:stretch/>
        </p:blipFill>
        <p:spPr>
          <a:xfrm>
            <a:off x="228600" y="457200"/>
            <a:ext cx="8763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2. Recruitment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0760" y="2017800"/>
            <a:ext cx="476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ind out what staff you n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dvertise the jo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1" descr="http://www.amtraining.co.uk/siteimages/recruitment_cartoon.gif"/>
          <p:cNvPicPr/>
          <p:nvPr/>
        </p:nvPicPr>
        <p:blipFill>
          <a:blip r:embed="rId1"/>
          <a:stretch/>
        </p:blipFill>
        <p:spPr>
          <a:xfrm>
            <a:off x="304920" y="190512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IE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333399"/>
                </a:solidFill>
                <a:latin typeface="Tahoma"/>
              </a:rPr>
              <a:t>Examine CV’s (curriculum vitae) </a:t>
            </a:r>
            <a:br>
              <a:rPr sz="3200"/>
            </a:br>
            <a:r>
              <a:rPr b="0" lang="en-IE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333399"/>
                </a:solidFill>
                <a:latin typeface="Tahoma"/>
              </a:rPr>
              <a:t>and Application 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86200" y="2017800"/>
            <a:ext cx="506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Look at all the replies to the advertis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6" descr="http://www.amtraining.co.uk/siteimages/recruitment_cartoon.gif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4. Short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7080" y="201780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all the best candidates for inter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6" descr="http://www.theequitykicker.com/wp-content/uploads/2007/05/recruitment.gif"/>
          <p:cNvPicPr/>
          <p:nvPr/>
        </p:nvPicPr>
        <p:blipFill>
          <a:blip r:embed="rId1"/>
          <a:stretch/>
        </p:blipFill>
        <p:spPr>
          <a:xfrm>
            <a:off x="457200" y="2209680"/>
            <a:ext cx="38098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5. Interview &amp; Sel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43400" y="201780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ace to face meeting to decide if the candidate is sui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5" descr="http://www.cartoonstock.com/newscartoons/cartoonists/rma/lowres/rman792l.jpg"/>
          <p:cNvPicPr/>
          <p:nvPr/>
        </p:nvPicPr>
        <p:blipFill>
          <a:blip r:embed="rId1"/>
          <a:stretch/>
        </p:blipFill>
        <p:spPr>
          <a:xfrm>
            <a:off x="380880" y="2209680"/>
            <a:ext cx="38102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6. Probationary Period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 trial period to see if the new employee is sui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7" descr="http://www.albertajobcentre.ca/content/images/Probation_Period_is_an_Effective_Screening_Tool.jpg"/>
          <p:cNvPicPr/>
          <p:nvPr/>
        </p:nvPicPr>
        <p:blipFill>
          <a:blip r:embed="rId1"/>
          <a:stretch/>
        </p:blipFill>
        <p:spPr>
          <a:xfrm>
            <a:off x="380880" y="2590920"/>
            <a:ext cx="27432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7. Contract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71800" y="2017800"/>
            <a:ext cx="598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ets 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erms of employ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Rates of p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Du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tarting d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http://www.konkursradet.no/element_db/20/200.gif"/>
          <p:cNvPicPr/>
          <p:nvPr/>
        </p:nvPicPr>
        <p:blipFill>
          <a:blip r:embed="rId1"/>
          <a:stretch/>
        </p:blipFill>
        <p:spPr>
          <a:xfrm>
            <a:off x="228600" y="2362320"/>
            <a:ext cx="25146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68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333399"/>
                </a:solidFill>
                <a:latin typeface="Tahoma"/>
              </a:rPr>
              <a:t>METHODS OF </a:t>
            </a:r>
            <a:r>
              <a:rPr b="1" lang="en-IE" sz="3200" spc="-1" strike="noStrike">
                <a:solidFill>
                  <a:srgbClr val="ff0000"/>
                </a:solidFill>
                <a:latin typeface="Tahoma"/>
              </a:rPr>
              <a:t>CALCULATING</a:t>
            </a:r>
            <a:r>
              <a:rPr b="1" lang="en-IE" sz="3200" spc="-1" strike="noStrike">
                <a:solidFill>
                  <a:srgbClr val="333399"/>
                </a:solidFill>
                <a:latin typeface="Tahoma"/>
              </a:rPr>
              <a:t> WAG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1. Time R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aid by the ho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lock in &amp; clock out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1" descr="http://school.discoveryeducation.com/clipart/images/clock.gif"/>
          <p:cNvPicPr/>
          <p:nvPr/>
        </p:nvPicPr>
        <p:blipFill>
          <a:blip r:embed="rId1"/>
          <a:stretch/>
        </p:blipFill>
        <p:spPr>
          <a:xfrm>
            <a:off x="380880" y="2286000"/>
            <a:ext cx="38102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2. Piece R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67080" y="201780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aid for the amount of items produced or work d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7" descr="http://radgeek.com/wp-content/uploads/2007/11/tomatopickers.jpg"/>
          <p:cNvPicPr/>
          <p:nvPr/>
        </p:nvPicPr>
        <p:blipFill>
          <a:blip r:embed="rId1"/>
          <a:stretch/>
        </p:blipFill>
        <p:spPr>
          <a:xfrm>
            <a:off x="30492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What is an employ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 person or firm who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pay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people to do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work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for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http://www.cartoonstock.com/newscartoons/cartoonists/rma/lowres/rman792l.jpg"/>
          <p:cNvPicPr/>
          <p:nvPr/>
        </p:nvPicPr>
        <p:blipFill>
          <a:blip r:embed="rId1"/>
          <a:stretch/>
        </p:blipFill>
        <p:spPr>
          <a:xfrm>
            <a:off x="3886200" y="2971800"/>
            <a:ext cx="510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3. Commi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193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Basic wage plus a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percentage of s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http://www.blueeskimo.com/media/2498/man-with-boxes-2.jpg"/>
          <p:cNvPicPr/>
          <p:nvPr/>
        </p:nvPicPr>
        <p:blipFill>
          <a:blip r:embed="rId1"/>
          <a:stretch/>
        </p:blipFill>
        <p:spPr>
          <a:xfrm>
            <a:off x="304920" y="2362320"/>
            <a:ext cx="38098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99"/>
                </a:solidFill>
                <a:latin typeface="Tahoma"/>
              </a:rPr>
              <a:t>METHODS OF </a:t>
            </a:r>
            <a:r>
              <a:rPr b="1" lang="en-IE" sz="3600" spc="-1" strike="noStrike">
                <a:solidFill>
                  <a:srgbClr val="ff0000"/>
                </a:solidFill>
                <a:latin typeface="Tahoma"/>
              </a:rPr>
              <a:t>PAYING</a:t>
            </a:r>
            <a:r>
              <a:rPr b="1" lang="en-IE" sz="3600" spc="-1" strike="noStrike">
                <a:solidFill>
                  <a:srgbClr val="333399"/>
                </a:solidFill>
                <a:latin typeface="Tahoma"/>
              </a:rPr>
              <a:t> WAG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1. Ca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Qui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nveni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Unsafe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7" descr="http://weblogs.cltv.com/news/local/chicago/Money%20stacks.jpg"/>
          <p:cNvPicPr/>
          <p:nvPr/>
        </p:nvPicPr>
        <p:blipFill>
          <a:blip r:embed="rId1"/>
          <a:stretch/>
        </p:blipFill>
        <p:spPr>
          <a:xfrm>
            <a:off x="1182600" y="2338560"/>
            <a:ext cx="38102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2. Che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62520" y="2017800"/>
            <a:ext cx="499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Record of pay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low: must change into cas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Reduce impulse buy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7" descr="http://img.tfd.com/wn/A6/6C290-chequebook.gif"/>
          <p:cNvPicPr/>
          <p:nvPr/>
        </p:nvPicPr>
        <p:blipFill>
          <a:blip r:embed="rId1"/>
          <a:stretch/>
        </p:blipFill>
        <p:spPr>
          <a:xfrm>
            <a:off x="304920" y="2133720"/>
            <a:ext cx="32004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3. Payp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Wages is paid directly into your bank accou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Quick, saf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Reduces impulse buy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7" descr="http://www.my-baby-shop.com/source/images/public/foreign_payment/giro-international.jpg"/>
          <p:cNvPicPr/>
          <p:nvPr/>
        </p:nvPicPr>
        <p:blipFill>
          <a:blip r:embed="rId1"/>
          <a:stretch/>
        </p:blipFill>
        <p:spPr>
          <a:xfrm>
            <a:off x="304920" y="213372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4. Benefit in ki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Non money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inco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mpany car or mobile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ubsidised meals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otal cost of employing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Gross Wage + Employers share of PR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Government uses PAYE to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ay wages of teachers, doctors, nur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mprove roads, hospitals, sch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vide Public Utilities: libraries, du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Government use PRSI t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ay social welfare payments such a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Job seekers allowance, Old Age Pe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Maternity Benefit or Sickness Benefit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amily Income Supplement (F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Gross Pay -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ages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befor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Net Pay -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ages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after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Rights of Emplo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6520" y="2017800"/>
            <a:ext cx="628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o set up a business and employ suitable sta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o decide on the aims and objectives of the business.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o dismisss dishonest sta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http://www.cartoonstock.com/lowres/tda0049l.jpg"/>
          <p:cNvPicPr/>
          <p:nvPr/>
        </p:nvPicPr>
        <p:blipFill>
          <a:blip r:embed="rId1"/>
          <a:stretch/>
        </p:blipFill>
        <p:spPr>
          <a:xfrm>
            <a:off x="152280" y="2057400"/>
            <a:ext cx="2590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ndard Rate of T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lower rate of t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ndard Rate Cut-off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amount that you can earn before you pay the high rate of ta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x Cred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amount that is subtracted from the tax you have to p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duces the amount of tax you have to p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Tahoma"/>
              </a:rPr>
              <a:t>Statutory D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Deductions that </a:t>
            </a:r>
            <a:r>
              <a:rPr b="1" lang="en-IE" sz="3200" spc="-1" strike="noStrike">
                <a:solidFill>
                  <a:srgbClr val="ff0000"/>
                </a:solidFill>
                <a:latin typeface="Tahoma"/>
              </a:rPr>
              <a:t>must </a:t>
            </a: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be m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PAY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PR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US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-533520"/>
            <a:ext cx="780084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IE" sz="3600" spc="-1" strike="noStrike">
                <a:solidFill>
                  <a:srgbClr val="333399"/>
                </a:solidFill>
                <a:latin typeface="Tahoma"/>
              </a:rPr>
              <a:t>Non Statutory (Voluntary) Dedu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0000"/>
                </a:solidFill>
                <a:uFillTx/>
                <a:latin typeface="Tahoma"/>
              </a:rPr>
              <a:t>Health insurance=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VHI, Aviva Health, GloHealth, Laya Health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0000"/>
                </a:solidFill>
                <a:uFillTx/>
                <a:latin typeface="Tahoma"/>
              </a:rPr>
              <a:t>Private pen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0000"/>
                </a:solidFill>
                <a:uFillTx/>
                <a:latin typeface="Tahoma"/>
              </a:rPr>
              <a:t>Trade union fee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0000"/>
                </a:solidFill>
                <a:uFillTx/>
                <a:latin typeface="Tahoma"/>
              </a:rPr>
              <a:t>Savings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IE" sz="4400" spc="-1" strike="noStrike">
                <a:solidFill>
                  <a:srgbClr val="333399"/>
                </a:solidFill>
                <a:latin typeface="Tahoma"/>
              </a:rPr>
              <a:t>Salary v W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ahoma"/>
              </a:rPr>
              <a:t>Salary-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eans an employee is paid a certain amount of money pe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ahoma"/>
              </a:rPr>
              <a:t>Wages-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mployee is paid per hou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Basic Pay-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ayment for normal wo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Overtime-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dditional pay at a higher rate per hour for working in excess of normal working h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Bonus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– Extra money added to wages for achieving certain targ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Benefit-in-kind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– Non money income.   Eg. company car, subsidised cant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Subsidised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– company pays some of the cost of meal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Flexi-time-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One can with the consent of ones employer work the required hours at any time within limits during the wee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Equal Opportnities Employer-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mployer does not discriminate on the grounds of: gender, race, colour, religion and 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loy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s someone who works for someone else for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eople who are employed work in 3 main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griculture (Farming, Fish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dustries  (manufacturing/construc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rvices (banking, healthcare et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ork v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Work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= Performing a task without payment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udent completing a household budget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Employmen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= work undertaken for payment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e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acher preparing notes for her business studies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Responsibilities of Emplo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00400" y="2017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vide safe &amp; healthy work condi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ay agreed wages for work d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Obey employment la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Keep records of PAYE &amp; PRSI dedu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http://www.villageeap.com/employer-resources/images/employer-intro.jpg"/>
          <p:cNvPicPr/>
          <p:nvPr/>
        </p:nvPicPr>
        <p:blipFill>
          <a:blip r:embed="rId1"/>
          <a:stretch/>
        </p:blipFill>
        <p:spPr>
          <a:xfrm>
            <a:off x="380880" y="205740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ights of Employ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ceive a minimum w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in a safe working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oin a trade union if you wi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 treated in an equal w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ng people at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rotection of Young Pers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(Employment) Act, 199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he link for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Reasons for keeping employee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f employee i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Seeking pro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laiming unfair dismis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Being made redund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Revenue commissioners - (PAYE/PR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Tahoma"/>
              </a:rPr>
              <a:t>Job Advertisement needs to hav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Name of the emplo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osition to be fil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Qualifications and experience of the candi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ow to ap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losing 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 statement saying that the company is an equal opportunities emplo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Tahoma"/>
              </a:rPr>
              <a:t>Information given on  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ersonal Details: Name, age etc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ducational achie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obbies/interests/achie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Name of refe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80978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333399"/>
                </a:solidFill>
                <a:latin typeface="Tahoma"/>
              </a:rPr>
              <a:t>PROCEDURE FOR EMPLOYING STAF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Job Description and </a:t>
            </a: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Person Spec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38120" y="2017800"/>
            <a:ext cx="491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Du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Qualifications nee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ersonality nee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ay &amp; hou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7" descr="http://www.stolaf.edu/services/cel/1_18_08/JobDescription.jpg"/>
          <p:cNvPicPr/>
          <p:nvPr/>
        </p:nvPicPr>
        <p:blipFill>
          <a:blip r:embed="rId1"/>
          <a:stretch/>
        </p:blipFill>
        <p:spPr>
          <a:xfrm>
            <a:off x="228600" y="2133720"/>
            <a:ext cx="34290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8:27:41Z</dcterms:created>
  <dc:creator>Rachel</dc:creator>
  <dc:description/>
  <dc:language>en-US</dc:language>
  <cp:lastModifiedBy>Siobhan O'Sullivan</cp:lastModifiedBy>
  <dcterms:modified xsi:type="dcterms:W3CDTF">2013-03-20T11:56:11Z</dcterms:modified>
  <cp:revision>13</cp:revision>
  <dc:subject/>
  <dc:title>Chapter 25</dc:title>
</cp:coreProperties>
</file>