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whoosh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57400" y="-360"/>
            <a:ext cx="2950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9333000"/>
            <a:ext cx="29512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5740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5FA2-7099-45F8-80F7-B02A808B56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3CF6-C97E-47E3-A84F-C337EDAD2B8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A76-9C1D-4441-8809-C166FD5C04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ED0-0700-435A-8E6D-CB7B883050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C70-EA44-4745-9909-5B8D8A5434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70A-3924-4F33-898D-8734F8BE506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8F80-7E78-4AB2-99F4-C3B61075981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006-B942-498A-A0E5-000AD0C3300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0E4-DB33-45EA-B224-AF8752EF1E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BD5-4232-4361-B0C2-C8EDF9931FE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ADFE-E812-46E5-B0A1-A49C6918E4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15C-2DAD-4A25-ABB1-0F98C9701C0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A15-B785-4DF0-845D-CCD310572D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435E-5944-4E81-97B1-7B84E52C23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582D-6099-49E6-9481-B4C804874A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57760" y="9333000"/>
            <a:ext cx="2950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EF1B-993D-4A01-B6C0-004205F6EC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7D0-DCEF-4AD8-B2B9-C336A7FF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A5C-89B7-40AB-99CA-7C24159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895-57C6-4EBF-BED9-657B94F8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0F8-5B8D-4EFB-8F17-6728D93E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2AB-5318-4005-B109-D2D7CF90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3AB-4CD6-4C38-A7E7-F1D32C5E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86A6-50AC-4A0E-9FB3-91C69675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FF58-742F-43BA-BC1D-D593B2D7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7B8-583A-4B50-8EE7-A754D1C4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E31C-4962-470A-B7CB-E03DDF8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A20-6E72-45A3-B0C7-82DC8E5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C6A-9E15-4593-B519-6B057DA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603D-B629-4ED2-8986-13F95087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026A-4EE9-4221-A328-277ADD9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4813-86E9-42B8-BA7E-DEA5621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1243-37D5-4ED3-AD7A-EC22CFB8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30D-FD96-4BF8-A4CB-E2FC6CB6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5B4-F042-4982-A685-27222D0F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B60-6786-473B-997E-2A8B8EC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00C-210B-4193-B8B9-A0AD009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DCF-818A-4449-96A2-BD3E7504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66F-84EF-46C9-A1C3-9985713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9DD-AE48-4E02-BDD3-6CCDC4A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A90-1E33-4073-9844-1CB0C4D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08B-B278-42B4-9102-FCB322027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88F-5248-4703-9F39-6ACC47EE18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2472840"/>
            <a:ext cx="723888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Working Lif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3860280"/>
            <a:ext cx="6400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Industrial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55640" y="6021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Times New Roman"/>
              </a:rPr>
              <a:t>Prepared by Gillian Feighery, SHS, Tullamore Co. Offa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Shop Stewar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s the local union representative and is elected by members for a term  of 1 to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Main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cruit new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ct as a link between members and union headqua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egotiate with an employer on behalf of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Irish Congress of Trade Unions(ICTU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Voluntary body made up of members for all trade u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t provides one voice for all member u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minates people to the Labour Court and the Labour Relations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onsulted by the government on all matters of national interest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g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mployment, social welfare, taxation, w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Irish Business &amp; Employers Confederation (IBEC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Represents all employers in negotiations with trade unions and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gives a voice to members on all aspects of industrial re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Industrial Relations Disput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TRA PAY FOR WORK D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AFER WORK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.g. CLASS SIZES, HOLIDAYS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ISMISSAL OF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SURING THAT EMPLOYEES ARE FAIRLY DISMI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EMPLOYEES ARE LAID OFF FIRST- LAST IN FIRST OUT (LIF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EMA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DO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THE WORK ONE IS EMPLOYED AND QUALIFIED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INDUSTRIAL ACTION BY UN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Work to rule: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where employees will only do the exact work they were employed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Go Slow: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where employees do their work but do so as slowly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vertime ban: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where employees refuse to do any overtime required by their emplo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Strike: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where workers stop working and place a picket on the employer. If the strike is official it will have the backing of the union and the IC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How to Resolve an Industrial Dispu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orkers and the supervisor discuss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The shop steward and HRM discuss the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 top union official and management discuss the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4. Conciliation: A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party eg Labour Relations Commission,  brings both parties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5. Arbitration A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party such as the Labour Court is asked to make a decision, which the disputing parties must agree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Functions of Labour Relations Commis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onciliation Service: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parties are brought together, and are encouraged to come up with a settlement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Advisory Service: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LRC offers advice to employers and employees on Industrial relations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appoints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ights Commissioners.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vestigates disputes concerning individual workers or small group o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appoints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quality officer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. Investigates disputes on issues of equality and discrimination in the work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dustrial Rel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s the relationship which exists between employers and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is most important that this relationship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cc00"/>
                </a:solidFill>
                <a:latin typeface="Arial Black"/>
              </a:rPr>
              <a:t>Labour Court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s a court of last resort and final app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vestigates disputes that cannot be sett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Registers employment agre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Concili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party/ LRC or mediator brings both sides of a dispute together and helps them find a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The proposal of the conciliator is not binding in industrial re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Arbi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Both parties to a dispute agree in advance to the decision of a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pa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e.g. Labour co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National Wage Agre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s a pay agreement between the social partners eg ICTU (workers), IBEC (employers) and the Gover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is binding on all employers and employees in the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Local Wage Agre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hen each employer negotiates with their own employees on pay and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Equal Opportunities Employ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t is illegal to discriminate on the grounds of marital status, gender, family status, religious belief, age, disability. Race, membership of traveller community, sexual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There must be equal pay for men an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Recap and Review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dustrial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rade Unions and Shop Ste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C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auses of Industrial Relations Disp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dustrial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solving a Dis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qual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Good Industrial Relations Lead To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Discussions taking place on an ongoing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Disputes over wages, working conditions and promotion can be settled without a str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Poor Industrial Rel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Disputes and str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Loss of pay for employ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Loss of profits for emplo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Unhappy workers looking for new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Trade Un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n organisation formed by workers to protect the interests of their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unctions of a Trade Un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tect the rights of their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Negotiate wages and sala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Negotiate work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Represent members at National Pay Agre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Benefits of joining a Trade un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Higher standard of living for members- better wages and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Greater job security if union  is powe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creased bargaining power, one voice for all wo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tection against discrimination or unfair dismis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Types of Trade Un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Arial"/>
              </a:rPr>
              <a:t>Industrial Union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: members work in the same industry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g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banking (IBOA) or nursing,(INO Irish Nurses Organis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Arial"/>
              </a:rPr>
              <a:t>Craft Unions: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embers belong to a particular trade and have served an apprenticeship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g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Brick and Stonelayers Trad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ypes of Trade Un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Arial"/>
              </a:rPr>
              <a:t>White Collar Unions: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embers are usually professional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g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teachers unions ASTI, TUI, I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Arial"/>
              </a:rPr>
              <a:t>General Unions: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embers come from a variety of occupations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g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IPTU (Services, Industrial, Professional and Technical Un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0:16:52Z</dcterms:created>
  <dc:creator>Gillian</dc:creator>
  <dc:description/>
  <dc:language>en-US</dc:language>
  <cp:lastModifiedBy>Siobhan O'Sullivan</cp:lastModifiedBy>
  <dcterms:modified xsi:type="dcterms:W3CDTF">2013-03-20T12:02:38Z</dcterms:modified>
  <cp:revision>7</cp:revision>
  <dc:subject/>
  <dc:title>Industrial Relations</dc:title>
</cp:coreProperties>
</file>