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2.jpeg" ContentType="image/jpeg"/>
  <Override PartName="/ppt/media/image19.jpeg" ContentType="image/jpeg"/>
  <Override PartName="/ppt/media/image6.wmf" ContentType="image/x-wmf"/>
  <Override PartName="/ppt/media/image10.jpeg" ContentType="image/jpeg"/>
  <Override PartName="/ppt/media/image17.jpeg" ContentType="image/jpeg"/>
  <Override PartName="/ppt/media/image11.wmf" ContentType="image/x-wmf"/>
  <Override PartName="/ppt/media/image20.jpeg" ContentType="image/jpeg"/>
  <Override PartName="/ppt/media/image7.wmf" ContentType="image/x-wmf"/>
  <Override PartName="/ppt/media/image32.wmf" ContentType="image/x-wmf"/>
  <Override PartName="/ppt/media/image8.png" ContentType="image/png"/>
  <Override PartName="/ppt/media/image9.wmf" ContentType="image/x-wmf"/>
  <Override PartName="/ppt/media/image30.wmf" ContentType="image/x-wmf"/>
  <Override PartName="/ppt/media/image13.wmf" ContentType="image/x-wmf"/>
  <Override PartName="/ppt/media/image27.jpeg" ContentType="image/jpeg"/>
  <Override PartName="/ppt/media/image34.wmf" ContentType="image/x-wmf"/>
  <Override PartName="/ppt/media/image4.wmf" ContentType="image/x-wmf"/>
  <Override PartName="/ppt/media/image33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media/image31.wmf" ContentType="image/x-wmf"/>
  <Override PartName="/ppt/media/image1.wmf" ContentType="image/x-wmf"/>
  <Override PartName="/ppt/media/image14.wmf" ContentType="image/x-wmf"/>
  <Override PartName="/ppt/media/image5.wmf" ContentType="image/x-wmf"/>
  <Override PartName="/ppt/media/image16.jpeg" ContentType="image/jpeg"/>
  <Override PartName="/ppt/media/image18.png" ContentType="image/png"/>
  <Override PartName="/ppt/media/image28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CEAD-0BE7-462D-845A-A75EA8B8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9748-BFC4-4D3E-998E-1A544867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6FEB-67C7-498A-AD0F-C7809745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0EBD-BC65-4824-A8D1-39EC5999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6CC7-3838-4CDB-BDF8-FF2A210C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F0E7-C88F-4C8C-BDE5-F6E54CF1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4910-4085-4186-B4DB-53885811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BE7C-733C-45C9-8F60-57DC3FD4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C275-D6F7-442D-9F5B-2AB0D998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54AE-584B-4171-9973-DD5B3925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0091-9697-42DD-A6A9-299269C7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74A-1C07-4898-BE1F-A4ECA93E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3563-A863-41D4-B2D6-62CA20D4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A2E2-45D4-48A0-BAC5-5B29C2A8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0D7F-3D14-49EA-B1F9-56FC2ABF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728A-EC67-4B73-AD26-334805F2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C232-D07C-4A96-B23C-DD9E7268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45C8-63D7-4603-9C76-CEE1BD62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A2E3-40B0-4B59-A83E-D0902241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9136-AB2B-43FB-AA08-22F667B1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337-CDA9-44E7-AAB9-ED0C0B22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C87-0F09-41C7-9D94-B93A4777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F517-E547-43BA-99CA-C0BAFD47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F06A-E935-4383-A3D4-007B20B4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5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Rectangle 1030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Rectangle 1031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Rectangle 1032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E514-C7E3-48D4-8824-73A06D3407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5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6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9" name="Rectangle 1027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Rectangle 1028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1" name="Rectangle 1029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2" name="Rectangle 1030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3" name="Rectangle 1031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4" name="Rectangle 1032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grpSp>
        <p:nvGrpSpPr>
          <p:cNvPr id="5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Tahoma"/>
                </a:endParaRPr>
              </a:p>
            </p:txBody>
          </p:sp>
          <p:sp>
            <p:nvSpPr>
              <p:cNvPr id="5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Tahoma"/>
                </a:endParaRPr>
              </a:p>
            </p:txBody>
          </p:sp>
        </p:grpSp>
        <p:grpSp>
          <p:nvGrpSpPr>
            <p:cNvPr id="59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6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Tahoma"/>
                </a:endParaRPr>
              </a:p>
            </p:txBody>
          </p:sp>
          <p:sp>
            <p:nvSpPr>
              <p:cNvPr id="61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Tahoma"/>
                </a:endParaRPr>
              </a:p>
            </p:txBody>
          </p:sp>
        </p:grpSp>
        <p:sp>
          <p:nvSpPr>
            <p:cNvPr id="6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Tahoma"/>
              </a:endParaRPr>
            </a:p>
          </p:txBody>
        </p:sp>
        <p:sp>
          <p:nvSpPr>
            <p:cNvPr id="6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Tahoma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Tahoma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B7EC-D932-42C4-996D-BF527BD0E480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Economic 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1042920" y="60930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ff0000"/>
                </a:solidFill>
                <a:latin typeface="Tahoma"/>
              </a:rPr>
              <a:t>Prepared by Rachel Farrell</a:t>
            </a:r>
            <a:endParaRPr b="0" lang="en-US" sz="18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Transnationals (TN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2017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Large business with headquarters in one country and branches in many oth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May move operations from one country to another in response to market condi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IDA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offers incentives to foreign TNC’s to set up he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.g. INTEL, IBM, Coca Cola, Nestle, Unilever……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45" name="Picture 15" descr="http://www.treehugger.com/TH%20coke-2.jpg"/>
          <p:cNvPicPr/>
          <p:nvPr/>
        </p:nvPicPr>
        <p:blipFill>
          <a:blip r:embed="rId1"/>
          <a:stretch/>
        </p:blipFill>
        <p:spPr>
          <a:xfrm>
            <a:off x="7162920" y="152280"/>
            <a:ext cx="1468440" cy="1447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http://www.cs.bgu.ac.il/~frankel/MultiCore08/intel-logo.jpg"/>
          <p:cNvPicPr/>
          <p:nvPr/>
        </p:nvPicPr>
        <p:blipFill>
          <a:blip r:embed="rId2"/>
          <a:stretch/>
        </p:blipFill>
        <p:spPr>
          <a:xfrm>
            <a:off x="1143000" y="5486400"/>
            <a:ext cx="168120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http://pointcommun.files.wordpress.com/2007/09/nestle-chocolove-logo.jpg"/>
          <p:cNvPicPr/>
          <p:nvPr/>
        </p:nvPicPr>
        <p:blipFill>
          <a:blip r:embed="rId3"/>
          <a:stretch/>
        </p:blipFill>
        <p:spPr>
          <a:xfrm>
            <a:off x="3276720" y="5410080"/>
            <a:ext cx="1874880" cy="1067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8" descr="http://saga.vn/Saga_Gallery/Thuonghieu/Unilever/unilever.jpg"/>
          <p:cNvPicPr/>
          <p:nvPr/>
        </p:nvPicPr>
        <p:blipFill>
          <a:blip r:embed="rId4"/>
          <a:stretch/>
        </p:blipFill>
        <p:spPr>
          <a:xfrm>
            <a:off x="5562720" y="5410080"/>
            <a:ext cx="2286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Unile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7" descr="http://www.gmpf.org.uk/imported/aa_collage.jpg"/>
          <p:cNvPicPr/>
          <p:nvPr/>
        </p:nvPicPr>
        <p:blipFill>
          <a:blip r:embed="rId1"/>
          <a:stretch/>
        </p:blipFill>
        <p:spPr>
          <a:xfrm>
            <a:off x="838080" y="2209680"/>
            <a:ext cx="3810240" cy="3795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http://saga.vn/Saga_Gallery/Thuonghieu/Unilever/unilever.jpg"/>
          <p:cNvPicPr/>
          <p:nvPr/>
        </p:nvPicPr>
        <p:blipFill>
          <a:blip r:embed="rId2"/>
          <a:stretch/>
        </p:blipFill>
        <p:spPr>
          <a:xfrm>
            <a:off x="5029200" y="1905120"/>
            <a:ext cx="411480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Agri-busi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Turns produce from agriculture into food products, e.g. Glanbia pl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IE" sz="2400" spc="-1" strike="noStrike">
                <a:solidFill>
                  <a:srgbClr val="ff0000"/>
                </a:solidFill>
                <a:latin typeface="Tahoma"/>
              </a:rPr>
              <a:t>Opportunit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Access to new markets of Eastern Eur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Produce GM free, organic, clean fo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New product ideas, yogurt drinks …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IE" sz="2400" spc="-1" strike="noStrike">
                <a:solidFill>
                  <a:srgbClr val="ff0000"/>
                </a:solidFill>
                <a:latin typeface="Tahoma"/>
              </a:rPr>
              <a:t>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Competition from other countr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Powerful multiple stores dictating prices &amp; credit te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7" descr="http://www.business2000.ie/images/case_studies_10th/glanbia/pic9.jpg"/>
          <p:cNvPicPr/>
          <p:nvPr/>
        </p:nvPicPr>
        <p:blipFill>
          <a:blip r:embed="rId1"/>
          <a:stretch/>
        </p:blipFill>
        <p:spPr>
          <a:xfrm>
            <a:off x="4876920" y="152280"/>
            <a:ext cx="3809880" cy="1524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http://www.glanbiamedia.com/_site/glanbia/images/top_glanbia_logo.gif"/>
          <p:cNvPicPr/>
          <p:nvPr/>
        </p:nvPicPr>
        <p:blipFill>
          <a:blip r:embed="rId2"/>
          <a:stretch/>
        </p:blipFill>
        <p:spPr>
          <a:xfrm>
            <a:off x="6804000" y="2637000"/>
            <a:ext cx="18972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Indigenous Fir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Tahoma"/>
              </a:rPr>
              <a:t>Set up in Ireland by Irish people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Tahoma"/>
              </a:rPr>
              <a:t>Helped by Enterprise Ireland &amp; County Enterprise Board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IE" sz="2700" spc="-1" strike="noStrike">
                <a:solidFill>
                  <a:srgbClr val="ff0000"/>
                </a:solidFill>
                <a:latin typeface="Tahoma"/>
              </a:rPr>
              <a:t>Advantages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Tahoma"/>
              </a:rPr>
              <a:t>Loyal to the country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Tahoma"/>
              </a:rPr>
              <a:t>They foster an enterprise culture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Tahoma"/>
              </a:rPr>
              <a:t>Profits remain in Ireland and reinvested in new businesse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IE" sz="2700" spc="-1" strike="noStrike">
                <a:solidFill>
                  <a:srgbClr val="ff0000"/>
                </a:solidFill>
                <a:latin typeface="Tahoma"/>
              </a:rPr>
              <a:t>Challenges :</a:t>
            </a:r>
            <a:r>
              <a:rPr b="0" lang="en-IE" sz="27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Tahoma"/>
              </a:rPr>
              <a:t>May depend on TNC’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6" descr="http://www.nijobs.com/logos/supermacs.gif"/>
          <p:cNvPicPr/>
          <p:nvPr/>
        </p:nvPicPr>
        <p:blipFill>
          <a:blip r:embed="rId1"/>
          <a:stretch/>
        </p:blipFill>
        <p:spPr>
          <a:xfrm>
            <a:off x="5715000" y="152280"/>
            <a:ext cx="3211560" cy="1371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http://www.citywestcampus.com/special_offers/images/eddyrockets.gif"/>
          <p:cNvPicPr/>
          <p:nvPr/>
        </p:nvPicPr>
        <p:blipFill>
          <a:blip r:embed="rId2"/>
          <a:stretch/>
        </p:blipFill>
        <p:spPr>
          <a:xfrm>
            <a:off x="304920" y="0"/>
            <a:ext cx="108108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http://lobimagelibrary.com/Lily-Logo-Large.gif"/>
          <p:cNvPicPr/>
          <p:nvPr/>
        </p:nvPicPr>
        <p:blipFill>
          <a:blip r:embed="rId3"/>
          <a:stretch/>
        </p:blipFill>
        <p:spPr>
          <a:xfrm>
            <a:off x="1447920" y="152280"/>
            <a:ext cx="380988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Tahoma"/>
              </a:rPr>
              <a:t>To ensure success the secondary Sector needs to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Produce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high quality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goo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Export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, find new marke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Invest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in capital &amp; R &amp; 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Avail of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advice &amp; grants from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nterprise Irela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(indigenous) IDA (TNC’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Adopt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World Class Manufacturing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(WC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(TQM, Empowerment &amp; Quality Control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6" descr="http://www.astp.net/Events/Fall_Seminars/Venice/Enterprise%20Ireland.jpg"/>
          <p:cNvPicPr/>
          <p:nvPr/>
        </p:nvPicPr>
        <p:blipFill>
          <a:blip r:embed="rId1"/>
          <a:stretch/>
        </p:blipFill>
        <p:spPr>
          <a:xfrm>
            <a:off x="2050920" y="5805360"/>
            <a:ext cx="468468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Tertiary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09320" y="2017800"/>
            <a:ext cx="674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Service Sec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Provides support services for the extractive &amp; manufacturing sectors and to consum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.g. finance, insurance, medical, beauty, recreation……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t is the last to develop, but eventually becomes largest employ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7" descr="http://www.ebsdublin.com/images/ifsc1_med.jpg"/>
          <p:cNvPicPr/>
          <p:nvPr/>
        </p:nvPicPr>
        <p:blipFill>
          <a:blip r:embed="rId1"/>
          <a:stretch/>
        </p:blipFill>
        <p:spPr>
          <a:xfrm>
            <a:off x="5029200" y="0"/>
            <a:ext cx="3809880" cy="1676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http://www.kudzu.com/content/includes_kudzu/category/banking.jpg"/>
          <p:cNvPicPr/>
          <p:nvPr/>
        </p:nvPicPr>
        <p:blipFill>
          <a:blip r:embed="rId2"/>
          <a:stretch/>
        </p:blipFill>
        <p:spPr>
          <a:xfrm>
            <a:off x="4643280" y="5800680"/>
            <a:ext cx="4267440" cy="990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http://24sis.com/img/insurance3.jpg"/>
          <p:cNvPicPr/>
          <p:nvPr/>
        </p:nvPicPr>
        <p:blipFill>
          <a:blip r:embed="rId3"/>
          <a:stretch/>
        </p:blipFill>
        <p:spPr>
          <a:xfrm>
            <a:off x="304920" y="1905120"/>
            <a:ext cx="1274760" cy="2057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7" descr="http://www.fotosearch.com/comp/UNN/UNN285/hair-dresser-cutting_~u12466008.jpg"/>
          <p:cNvPicPr/>
          <p:nvPr/>
        </p:nvPicPr>
        <p:blipFill>
          <a:blip r:embed="rId4"/>
          <a:stretch/>
        </p:blipFill>
        <p:spPr>
          <a:xfrm>
            <a:off x="304920" y="3962520"/>
            <a:ext cx="17413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Why is the tertiary sector the fastest growing secto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conomic development = increased weal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ncreased wealth = increased demand for ser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xpansion of Public Sector = more jobs in health education 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xpansion of business = need for support servic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nternational trade in services such as IT &amp; fin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The 4 stages in the development of the economy,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Decline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in agriculture as technology impro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Growth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in construction &amp; manufacturing. People move to non rural areas to li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Growth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in service sector to support the growth in manufacturing &amp; constru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Globalisation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of services facilitated by developments in IC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Contribution of the three sectors of the econo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Primary Se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rovides raw materials for secondary secto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rovides approximately 10% employment, tax etc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ump a lot of money into the Irish economy by purchasing machinery and consumables for their busines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xport a lot of produc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880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Secondary Se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Consume Irish raw materials e.g. Riben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rovides appproximately 25% employment, tax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xport a lot of their produ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ncourages the development of indigenous firm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The Sectors of the Econo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rimary Sector – Extractive Indus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Secondary Sector –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Construction &amp; Manufacturing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ertiary Sector – Service Se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Tertiary Se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rovides support services for the primary &amp; secondary sect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mploys approximately 65% of work force, tax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IFSC attracts half of the worlds top 50 banks &amp; half the worlds top 20 insurance co.’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Invisible exports such as call centres provide Ireland with more weal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Important trends &amp; issues in the main industries in Ireland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Prim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Quotas, organic food, provision of sustainable energy to reduce dependence on oil, more fores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Secondary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T TNC’s coming to Ireland, Manufacturing TNC’s leaving Ireland (FOTL), major infrastructural improvements, slowdown in constru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Terti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Huge increase in services suppli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Invisible exports such as call centres, software development, finance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Foreign banks and insurance companies locating in International Financial Services Centre in order to have access to EU mark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4 Factors of P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L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Labou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Capit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1028" descr="E:\PFiles\MSOffice\Clipart\standard\stddir4\TR00640_.WMF"/>
          <p:cNvPicPr/>
          <p:nvPr/>
        </p:nvPicPr>
        <p:blipFill>
          <a:blip r:embed="rId1"/>
          <a:stretch/>
        </p:blipFill>
        <p:spPr>
          <a:xfrm>
            <a:off x="3657600" y="18288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29" descr="E:\PFiles\MSOffice\Clipart\standard\stddir1\BD05352_.WMF"/>
          <p:cNvPicPr/>
          <p:nvPr/>
        </p:nvPicPr>
        <p:blipFill>
          <a:blip r:embed="rId2"/>
          <a:stretch/>
        </p:blipFill>
        <p:spPr>
          <a:xfrm>
            <a:off x="5867280" y="236232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30" descr="E:\PFiles\MSOffice\Clipart\standard\stddir1\BD05168_.WMF"/>
          <p:cNvPicPr/>
          <p:nvPr/>
        </p:nvPicPr>
        <p:blipFill>
          <a:blip r:embed="rId3"/>
          <a:stretch/>
        </p:blipFill>
        <p:spPr>
          <a:xfrm>
            <a:off x="3657600" y="3505320"/>
            <a:ext cx="1295280" cy="1981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31" descr="E:\PFiles\MSOffice\Clipart\smbusbas\BD05338_.WMF"/>
          <p:cNvPicPr/>
          <p:nvPr/>
        </p:nvPicPr>
        <p:blipFill>
          <a:blip r:embed="rId4"/>
          <a:stretch/>
        </p:blipFill>
        <p:spPr>
          <a:xfrm>
            <a:off x="5638680" y="4114800"/>
            <a:ext cx="2210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La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00040" y="2017800"/>
            <a:ext cx="575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All things supplied by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na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Natural resources used in produ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.g. fields, water, natural gas, oil, coal, minerals, trees……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he payment/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reward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for land is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r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5" descr="E:\PFiles\MSOffice\Clipart\standard\stddir4\TR00640_.WMF"/>
          <p:cNvPicPr/>
          <p:nvPr/>
        </p:nvPicPr>
        <p:blipFill>
          <a:blip r:embed="rId1"/>
          <a:stretch/>
        </p:blipFill>
        <p:spPr>
          <a:xfrm>
            <a:off x="304920" y="1981080"/>
            <a:ext cx="27432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Labou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00040" y="2017800"/>
            <a:ext cx="575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human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element in the production pro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.g. employees, builders, carpenters, factory workers…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reward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for labour is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wa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7" descr="E:\PFiles\MSOffice\Clipart\standard\stddir1\BD05352_.WMF"/>
          <p:cNvPicPr/>
          <p:nvPr/>
        </p:nvPicPr>
        <p:blipFill>
          <a:blip r:embed="rId1"/>
          <a:stretch/>
        </p:blipFill>
        <p:spPr>
          <a:xfrm>
            <a:off x="228600" y="2209680"/>
            <a:ext cx="251460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Capi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971800" y="2017800"/>
            <a:ext cx="598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All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man-made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things that help produce goo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Money is invested to buy things such as buildings, machinery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reward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for capital investment is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inter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5" descr="E:\PFiles\MSOffice\Clipart\standard\stddir1\BD05168_.WMF"/>
          <p:cNvPicPr/>
          <p:nvPr/>
        </p:nvPicPr>
        <p:blipFill>
          <a:blip r:embed="rId1"/>
          <a:stretch/>
        </p:blipFill>
        <p:spPr>
          <a:xfrm>
            <a:off x="304920" y="190512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E:\PFiles\MSOffice\Clipart\standard\stddir1\BD05194_.WMF"/>
          <p:cNvPicPr/>
          <p:nvPr/>
        </p:nvPicPr>
        <p:blipFill>
          <a:blip r:embed="rId2"/>
          <a:stretch/>
        </p:blipFill>
        <p:spPr>
          <a:xfrm>
            <a:off x="533520" y="4419720"/>
            <a:ext cx="22161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Enterpr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19160" y="2017800"/>
            <a:ext cx="613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ntrepreneur taking the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initiative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risk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o set up a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new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busin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.g. Ramona Nicholas, Richard Branson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reward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for enterprise is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prof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risk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of enterprise is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lo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5" descr="E:\PFiles\MSOffice\Clipart\smbusbas\BD05338_.WMF"/>
          <p:cNvPicPr/>
          <p:nvPr/>
        </p:nvPicPr>
        <p:blipFill>
          <a:blip r:embed="rId1"/>
          <a:stretch/>
        </p:blipFill>
        <p:spPr>
          <a:xfrm>
            <a:off x="304920" y="1981080"/>
            <a:ext cx="220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Primary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66520" y="2017800"/>
            <a:ext cx="628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Also known as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extractive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insdus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urns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natural resources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into raw materials for use in secondary sec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.g. agriculture, forestry, fishing, min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5" descr="E:\PFiles\MSOffice\Clipart\standard\stddir3\IN00733_.wmf"/>
          <p:cNvPicPr/>
          <p:nvPr/>
        </p:nvPicPr>
        <p:blipFill>
          <a:blip r:embed="rId1"/>
          <a:stretch/>
        </p:blipFill>
        <p:spPr>
          <a:xfrm>
            <a:off x="152280" y="1905120"/>
            <a:ext cx="2133720" cy="1969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E:\PFiles\MSOffice\Clipart\standard\stddir4\PH03003J.jpg"/>
          <p:cNvPicPr/>
          <p:nvPr/>
        </p:nvPicPr>
        <p:blipFill>
          <a:blip r:embed="rId2"/>
          <a:stretch/>
        </p:blipFill>
        <p:spPr>
          <a:xfrm>
            <a:off x="5334120" y="0"/>
            <a:ext cx="3429000" cy="1778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E:\PFiles\MSOffice\Clipart\standard\stddir3\IN01083_.WMF"/>
          <p:cNvPicPr/>
          <p:nvPr/>
        </p:nvPicPr>
        <p:blipFill>
          <a:blip r:embed="rId3"/>
          <a:stretch/>
        </p:blipFill>
        <p:spPr>
          <a:xfrm>
            <a:off x="228600" y="4114800"/>
            <a:ext cx="171756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Agricul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23720" y="2017800"/>
            <a:ext cx="583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Produces meat, milk, cereals &amp; horticultural outp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1/3 of the largest firms in Ireland use agricultural output such as milk &amp; beef in their produc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5" descr="E:\PFiles\MSOffice\Clipart\standard\stddir4\PH03003J.jpg"/>
          <p:cNvPicPr/>
          <p:nvPr/>
        </p:nvPicPr>
        <p:blipFill>
          <a:blip r:embed="rId1"/>
          <a:stretch/>
        </p:blipFill>
        <p:spPr>
          <a:xfrm>
            <a:off x="228600" y="251460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Problems with agricul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2017800"/>
            <a:ext cx="65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Tahoma"/>
              </a:rPr>
              <a:t>Climate: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Bad weather distroys cro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Tahoma"/>
              </a:rPr>
              <a:t>Output: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Overproduction leads to low prices - milk quotas and single farm payments restrict the amount of milk &amp; beef that can be produced in order to keep farm incomes hig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Tahoma"/>
              </a:rPr>
              <a:t>Disease: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Foot &amp; Mouth, BSE, Salmonella, Bird Flu………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5" descr="C:\Program Files\Microsoft Office\Clipart\Pub60Cor\NA01682_.wmf"/>
          <p:cNvPicPr/>
          <p:nvPr/>
        </p:nvPicPr>
        <p:blipFill>
          <a:blip r:embed="rId1"/>
          <a:stretch/>
        </p:blipFill>
        <p:spPr>
          <a:xfrm>
            <a:off x="152280" y="1981080"/>
            <a:ext cx="2057400" cy="1720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E:\PFiles\MSOffice\Clipart\standard\stddir3\FD01554_.wmf"/>
          <p:cNvPicPr/>
          <p:nvPr/>
        </p:nvPicPr>
        <p:blipFill>
          <a:blip r:embed="rId2"/>
          <a:stretch/>
        </p:blipFill>
        <p:spPr>
          <a:xfrm>
            <a:off x="228600" y="4343400"/>
            <a:ext cx="16747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Forest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90920" y="2017800"/>
            <a:ext cx="636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Forests in Ireland mostly owned by Coillte (one million acr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hey are involved in tree plantation &amp; timber processing 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Problem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Forestry drains nearby soils of vital nutri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Land used in forestry cannot be used for animal rea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5" descr="E:\PFiles\MSOffice\Clipart\standard\stddir1\BD05184_.WMF"/>
          <p:cNvPicPr/>
          <p:nvPr/>
        </p:nvPicPr>
        <p:blipFill>
          <a:blip r:embed="rId1"/>
          <a:stretch/>
        </p:blipFill>
        <p:spPr>
          <a:xfrm>
            <a:off x="152280" y="1981080"/>
            <a:ext cx="2162160" cy="221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E:\PFiles\MSOffice\Clipart\standard\stddir2\BD07256_.WMF"/>
          <p:cNvPicPr/>
          <p:nvPr/>
        </p:nvPicPr>
        <p:blipFill>
          <a:blip r:embed="rId2"/>
          <a:stretch/>
        </p:blipFill>
        <p:spPr>
          <a:xfrm>
            <a:off x="380880" y="4343400"/>
            <a:ext cx="1814760" cy="1771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www.business2000.ie/images/logos/coilte.gif"/>
          <p:cNvPicPr/>
          <p:nvPr/>
        </p:nvPicPr>
        <p:blipFill>
          <a:blip r:embed="rId3"/>
          <a:stretch/>
        </p:blipFill>
        <p:spPr>
          <a:xfrm>
            <a:off x="4267080" y="380880"/>
            <a:ext cx="40388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Fis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361960" y="2017800"/>
            <a:ext cx="659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BIM is the Irish Fisheries Boa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They promote the fishing indus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Fish is caught and sold fresh, processed or froz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Salmon farming is on the incre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Tahoma"/>
              </a:rPr>
              <a:t>Problems: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Overfishing – depletion of fish eg. C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EU quotas – limits put on fishing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Competition from large European fleet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5" descr="E:\PFiles\MSOffice\Clipart\smbusbas\AN00955_.wmf"/>
          <p:cNvPicPr/>
          <p:nvPr/>
        </p:nvPicPr>
        <p:blipFill>
          <a:blip r:embed="rId1"/>
          <a:stretch/>
        </p:blipFill>
        <p:spPr>
          <a:xfrm>
            <a:off x="228600" y="2209680"/>
            <a:ext cx="2057400" cy="2971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http://www.careersportal.ie/images/sectors/clients/logo_large/27.jpg"/>
          <p:cNvPicPr/>
          <p:nvPr/>
        </p:nvPicPr>
        <p:blipFill>
          <a:blip r:embed="rId2"/>
          <a:stretch/>
        </p:blipFill>
        <p:spPr>
          <a:xfrm>
            <a:off x="3352680" y="152280"/>
            <a:ext cx="5257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Mi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2017800"/>
            <a:ext cx="65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ara mines – zinc &amp; lead (export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Monaghan – gypsum (plaster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BNM – peat (generates electricity, fuel, peat moss…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World demand for zinc is fall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Closures of some mi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Mining damages the environ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5" descr="E:\PFiles\MSOffice\Clipart\smbusbas\PE00773_.wmf"/>
          <p:cNvPicPr/>
          <p:nvPr/>
        </p:nvPicPr>
        <p:blipFill>
          <a:blip r:embed="rId1"/>
          <a:stretch/>
        </p:blipFill>
        <p:spPr>
          <a:xfrm>
            <a:off x="228600" y="1905120"/>
            <a:ext cx="2133720" cy="30477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36" name="Picture 9" descr="https://www.irishturf.com/greenimages/Irish%20Turf%20Logo%203_r1_c3.jpg"/>
          <p:cNvPicPr/>
          <p:nvPr/>
        </p:nvPicPr>
        <p:blipFill>
          <a:blip r:embed="rId2"/>
          <a:stretch/>
        </p:blipFill>
        <p:spPr>
          <a:xfrm>
            <a:off x="4495680" y="228600"/>
            <a:ext cx="3505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Secondary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1800" y="2017800"/>
            <a:ext cx="598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he manufacturing &amp; construction sector of the econom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t turns raw materials into finished produ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3 Main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ransnationals (TNC’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Agri-bus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ndigenous Fi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5" descr="E:\PFiles\MSOffice\Clipart\smbusbas\BD20041_.WMF"/>
          <p:cNvPicPr/>
          <p:nvPr/>
        </p:nvPicPr>
        <p:blipFill>
          <a:blip r:embed="rId1"/>
          <a:stretch/>
        </p:blipFill>
        <p:spPr>
          <a:xfrm>
            <a:off x="0" y="2057400"/>
            <a:ext cx="2743200" cy="2490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E:\PFiles\MSOffice\Clipart\standard\stddir1\BD07096_.WMF"/>
          <p:cNvPicPr/>
          <p:nvPr/>
        </p:nvPicPr>
        <p:blipFill>
          <a:blip r:embed="rId2"/>
          <a:stretch/>
        </p:blipFill>
        <p:spPr>
          <a:xfrm>
            <a:off x="457200" y="4648320"/>
            <a:ext cx="243828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21:51:25Z</dcterms:created>
  <dc:creator>Rachel</dc:creator>
  <dc:description/>
  <dc:language>en-US</dc:language>
  <cp:lastModifiedBy>Siobhan O'Sullivan</cp:lastModifiedBy>
  <dcterms:modified xsi:type="dcterms:W3CDTF">2013-03-20T11:52:38Z</dcterms:modified>
  <cp:revision>16</cp:revision>
  <dc:subject/>
  <dc:title>Chapter 18</dc:title>
</cp:coreProperties>
</file>