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EE51-83A6-4878-9E70-8F7BD3376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1F13-7D8E-4C6F-82AF-DE04B701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B60B-28E8-456F-B20E-20BC4B72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6A67-3432-4AE6-8083-BD7F9588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4CB9-AE95-44C8-BBAD-1D5AA6F7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B7CF-74DB-460B-88C5-64D6D55B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E828-6D1B-4AE8-A611-313ABD5C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D5D3-6E89-4E29-84CB-146E31C1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CA42-FFDE-40BD-A41E-778CB2DC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D8F1-E2D5-4BD0-9BAB-13C8BA6C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0406-670C-445F-9776-6F00266F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4B1D-0B8E-417B-980F-E7FD7336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8A86-84EE-4277-821E-0F3E6720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2C37-06A8-484A-9DAB-337D3125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24AD-B982-466B-9309-61884167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07AB-8975-4143-8B21-27935BA4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7A0C-7B97-43A4-9C72-55A1D4E4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7547-3BAC-46FA-95AA-F7D0421D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034F-F212-434D-ABD6-6C479C5E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252C-89C0-4454-9D66-2B476C08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95A8-C62E-4A6E-81A4-063BF75C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1876-981C-42BC-88A9-49F4963E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12E8-27F1-4D1E-A747-879B8920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CCD3-3F38-40FB-8EA3-7A35F4DE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9F48-AADC-4DD3-BEBF-04C3A7A49B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grpSp>
        <p:nvGrpSpPr>
          <p:cNvPr id="5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6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Tahoma"/>
                </a:endParaRPr>
              </a:p>
            </p:txBody>
          </p:sp>
          <p:sp>
            <p:nvSpPr>
              <p:cNvPr id="58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Tahoma"/>
                </a:endParaRPr>
              </a:p>
            </p:txBody>
          </p:sp>
        </p:grpSp>
        <p:grpSp>
          <p:nvGrpSpPr>
            <p:cNvPr id="59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60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Tahoma"/>
                </a:endParaRPr>
              </a:p>
            </p:txBody>
          </p:sp>
          <p:sp>
            <p:nvSpPr>
              <p:cNvPr id="61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Tahoma"/>
                </a:endParaRPr>
              </a:p>
            </p:txBody>
          </p:sp>
        </p:grpSp>
        <p:sp>
          <p:nvSpPr>
            <p:cNvPr id="6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Tahoma"/>
              </a:endParaRPr>
            </a:p>
          </p:txBody>
        </p:sp>
        <p:sp>
          <p:nvSpPr>
            <p:cNvPr id="6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Tahoma"/>
              </a:endParaRPr>
            </a:p>
          </p:txBody>
        </p:sp>
        <p:sp>
          <p:nvSpPr>
            <p:cNvPr id="6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Tahoma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542C-B21A-4C0E-AA33-F3E285AE0CC1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116000" y="1773360"/>
            <a:ext cx="7772400" cy="15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Leadership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39528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0000"/>
                </a:solidFill>
                <a:latin typeface="Tahoma"/>
              </a:rPr>
              <a:t>Prepared by Rachel Farrell</a:t>
            </a:r>
            <a:endParaRPr b="0" lang="en-US" sz="16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Tahoma"/>
              </a:rPr>
              <a:t>Laissez-faire Lead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Does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give much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direction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Delegates a lot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of tasks &amp; responsibilit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Communicates 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both upward &amp; downwa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Motivates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by giving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freedom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to work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Worker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morale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may be high or l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Eg. Richard Brans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5" descr="http://blog.cunysustainablecities.org/wp-content/uploads/2009/07/richard-branson.jpg"/>
          <p:cNvPicPr/>
          <p:nvPr/>
        </p:nvPicPr>
        <p:blipFill>
          <a:blip r:embed="rId1"/>
          <a:stretch/>
        </p:blipFill>
        <p:spPr>
          <a:xfrm>
            <a:off x="6300720" y="152280"/>
            <a:ext cx="261792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Sugges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 u="sng">
                <a:solidFill>
                  <a:srgbClr val="000000"/>
                </a:solidFill>
                <a:uFillTx/>
                <a:latin typeface="Tahoma"/>
              </a:rPr>
              <a:t>Read &amp; discu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Leadership is an essential factor affecting business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 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Agata Kołodyńs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First Year B.E.S.T. Student T.C.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Leadership key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Del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Coordina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Motiva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Tahoma"/>
              </a:rPr>
              <a:t>Leadersh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A leader is a person who gives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direction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by guiding people towards achievieng go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hey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delegate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tasks and responsibilities to others in order to involve them, share the work load and reduce str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hey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coordinate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the efforts of all staff in order to ensure that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harmony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and common goals are achiev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hey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motivate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staff by being aware of the factors that entice workers to be more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productive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The three types of leader ar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Authoritarian/Autocra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Democra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Free-re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Authoritarian</a:t>
            </a:r>
            <a:br>
              <a:rPr sz="4400"/>
            </a:b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Autocratic Lead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Gives plenty of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direction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as they always tell people what to 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hey do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not delegate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well as they think that they can do things b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hey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communicate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mostly downwar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5" descr="http://lighthousepatriotjournal.files.wordpress.com/2009/09/adolf-hitler_02.jpg"/>
          <p:cNvPicPr/>
          <p:nvPr/>
        </p:nvPicPr>
        <p:blipFill>
          <a:blip r:embed="rId1"/>
          <a:stretch/>
        </p:blipFill>
        <p:spPr>
          <a:xfrm>
            <a:off x="5943600" y="228600"/>
            <a:ext cx="2917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hey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motivate by fe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Worker morale may be low under this type of lea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Eg. Hit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4" descr="http://lighthousepatriotjournal.files.wordpress.com/2009/09/adolf-hitler_02.jpg"/>
          <p:cNvPicPr/>
          <p:nvPr/>
        </p:nvPicPr>
        <p:blipFill>
          <a:blip r:embed="rId1"/>
          <a:stretch/>
        </p:blipFill>
        <p:spPr>
          <a:xfrm>
            <a:off x="5943600" y="228600"/>
            <a:ext cx="2917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Tahoma"/>
              </a:rPr>
              <a:t>Democratic Lead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Gives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good direction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as they guide people towards a common go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Will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delegate 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work to ensure all are involved and inclu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Communicates 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both downward and upward, listens to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suggestions &amp; feedb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5" descr="http://eebatou.files.wordpress.com/2008/07/barack-obama.jpg"/>
          <p:cNvPicPr/>
          <p:nvPr/>
        </p:nvPicPr>
        <p:blipFill>
          <a:blip r:embed="rId1"/>
          <a:stretch/>
        </p:blipFill>
        <p:spPr>
          <a:xfrm>
            <a:off x="5997600" y="380880"/>
            <a:ext cx="3070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Motivates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by encouraging and including all staf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Worker morale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will be high as they feel valu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Eg. Barak Ob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4" descr="http://eebatou.files.wordpress.com/2008/07/barack-obama.jpg"/>
          <p:cNvPicPr/>
          <p:nvPr/>
        </p:nvPicPr>
        <p:blipFill>
          <a:blip r:embed="rId1"/>
          <a:stretch/>
        </p:blipFill>
        <p:spPr>
          <a:xfrm>
            <a:off x="5997600" y="380880"/>
            <a:ext cx="3070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9:25:02Z</dcterms:created>
  <dc:creator>Rachel</dc:creator>
  <dc:description/>
  <dc:language>en-US</dc:language>
  <cp:lastModifiedBy>Siobhan O'Sullivan</cp:lastModifiedBy>
  <dcterms:modified xsi:type="dcterms:W3CDTF">2013-03-20T11:18:00Z</dcterms:modified>
  <cp:revision>14</cp:revision>
  <dc:subject/>
  <dc:title>Chapter 5</dc:title>
</cp:coreProperties>
</file>