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7D8-E37C-409F-BFD7-E32351BE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7042-EE41-4F5F-81BA-4700A00D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ECD-D976-41A4-9AEA-04D18678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122-9B6A-4915-A908-B4B17CC4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6C8E-7C5E-4124-AC91-5077D3A2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7A7B-9909-4378-8DB2-E980133D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8B3F-A601-4616-B8FB-E7EE0C1C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07CB-8FFA-4967-B89B-86A4BB06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9ABE-507F-4DF9-BC1B-74C1BB93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1D92-5314-4100-A0F3-51AEDE71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3C82-E9EA-450C-B083-7A355DAF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C97-0100-4B6B-9050-716505FF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FBE5-F5F7-4E7F-A0C8-4F1074A6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DB7B-5AC5-4FDC-B527-ED79F8FF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D59F-6BBC-4015-B054-80BD0945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D0AE-58FE-41A5-BE17-480DA586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66BD-6EE0-4948-AADB-A433A77E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970-E1BD-4F00-92DE-D92ABBB6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006-B216-4D88-BBA0-0D0E4A20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B7F-8AD7-4A88-81B9-D4A5F896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8E2-F3A5-4024-A225-9BB4C079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1E3-BDA0-4A4A-859B-AFC1153D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4CAC-0825-43C7-A0D0-94FCBEE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C7E-4EE2-4056-9A42-298AF4E3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B54D-F1E0-4961-AE7D-4814516FC1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6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  <p:sp>
            <p:nvSpPr>
              <p:cNvPr id="58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</p:grpSp>
        <p:grpSp>
          <p:nvGrpSpPr>
            <p:cNvPr id="59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60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  <p:sp>
            <p:nvSpPr>
              <p:cNvPr id="61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0000"/>
                  </a:solidFill>
                  <a:latin typeface="Tahoma"/>
                </a:endParaRPr>
              </a:p>
            </p:txBody>
          </p:sp>
        </p:grpSp>
        <p:sp>
          <p:nvSpPr>
            <p:cNvPr id="6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6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  <p:sp>
          <p:nvSpPr>
            <p:cNvPr id="6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0000"/>
                </a:solidFill>
                <a:latin typeface="Tahoma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E330-A43B-460E-AF52-E3B5EEB659BE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16000" y="1773360"/>
            <a:ext cx="7772400" cy="15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Leadership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395280" y="630864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0000"/>
                </a:solidFill>
                <a:latin typeface="Tahoma"/>
              </a:rPr>
              <a:t>Prepared by Rachel Farrell</a:t>
            </a:r>
            <a:endParaRPr b="0" lang="en-US" sz="16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Tahoma"/>
              </a:rPr>
              <a:t>Laissez-faire Lea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oes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give much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irectio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elegates a lot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of tasks &amp; responsibil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ommunicates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both upward &amp; downwa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Motivates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by giving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freedom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to work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orker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moral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may be high or l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g. Richard Brans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1" name="Picture 5" descr="http://blog.cunysustainablecities.org/wp-content/uploads/2009/07/richard-branson.jpg"/>
          <p:cNvPicPr/>
          <p:nvPr/>
        </p:nvPicPr>
        <p:blipFill>
          <a:blip r:embed="rId1"/>
          <a:stretch/>
        </p:blipFill>
        <p:spPr>
          <a:xfrm>
            <a:off x="6300720" y="152280"/>
            <a:ext cx="26179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Sugges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Tahoma"/>
              </a:rPr>
              <a:t>Read &amp; discu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eadership is an essential factor affecting business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y 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Agata Kołodyńs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irst Year B.E.S.T. Student T.C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Leadership key w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Coordin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Motiva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Tahoma"/>
              </a:rPr>
              <a:t>Leadersh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A leader is a person who gives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irectio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by guiding people towards achievieng go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elegat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tasks and responsibilities to others in order to involve them, share the work load and reduce str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oordinat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the efforts of all staff in order to ensure that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harmony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and common goals are achiev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motivat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staff by being aware of the factors that entice workers to be more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productiv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The three types of leader ar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Authoritarian/Autocra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Democra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Free-re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Authoritarian</a:t>
            </a:r>
            <a:br>
              <a:rPr sz="4400"/>
            </a:br>
            <a:r>
              <a:rPr b="0" lang="en-IE" sz="4400" spc="-1" strike="noStrike">
                <a:solidFill>
                  <a:srgbClr val="333399"/>
                </a:solidFill>
                <a:latin typeface="Tahoma"/>
              </a:rPr>
              <a:t>Autocratic Lea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Gives plenty of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irectio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as they always tell people what to 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do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not delegat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well as they think that they can do things b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ommunicat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mostly downw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http://lighthousepatriotjournal.files.wordpress.com/2009/09/adolf-hitler_02.jpg"/>
          <p:cNvPicPr/>
          <p:nvPr/>
        </p:nvPicPr>
        <p:blipFill>
          <a:blip r:embed="rId1"/>
          <a:stretch/>
        </p:blipFill>
        <p:spPr>
          <a:xfrm>
            <a:off x="5943600" y="228600"/>
            <a:ext cx="291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motivate by fe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orker morale may be low under this type of l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g. Hit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4" descr="http://lighthousepatriotjournal.files.wordpress.com/2009/09/adolf-hitler_02.jpg"/>
          <p:cNvPicPr/>
          <p:nvPr/>
        </p:nvPicPr>
        <p:blipFill>
          <a:blip r:embed="rId1"/>
          <a:stretch/>
        </p:blipFill>
        <p:spPr>
          <a:xfrm>
            <a:off x="5943600" y="228600"/>
            <a:ext cx="291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Tahoma"/>
              </a:rPr>
              <a:t>Democratic Lea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Gives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good direction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as they guide people towards a common go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ill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delegate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work to ensure all are involved and inclu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Communicates 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both downward and upward, listens to </a:t>
            </a: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suggestions &amp; feedba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http://eebatou.files.wordpress.com/2008/07/barack-obama.jpg"/>
          <p:cNvPicPr/>
          <p:nvPr/>
        </p:nvPicPr>
        <p:blipFill>
          <a:blip r:embed="rId1"/>
          <a:stretch/>
        </p:blipFill>
        <p:spPr>
          <a:xfrm>
            <a:off x="5997600" y="380880"/>
            <a:ext cx="3070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Motivates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by encouraging and including all sta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Tahoma"/>
              </a:rPr>
              <a:t>Worker morale</a:t>
            </a: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 will be high as they feel valu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ahoma"/>
              </a:rPr>
              <a:t>Eg. Barak Ob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http://eebatou.files.wordpress.com/2008/07/barack-obama.jpg"/>
          <p:cNvPicPr/>
          <p:nvPr/>
        </p:nvPicPr>
        <p:blipFill>
          <a:blip r:embed="rId1"/>
          <a:stretch/>
        </p:blipFill>
        <p:spPr>
          <a:xfrm>
            <a:off x="5997600" y="380880"/>
            <a:ext cx="30700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9:25:02Z</dcterms:created>
  <dc:creator>Rachel</dc:creator>
  <dc:description/>
  <dc:language>en-US</dc:language>
  <cp:lastModifiedBy>Siobhan O'Sullivan</cp:lastModifiedBy>
  <dcterms:modified xsi:type="dcterms:W3CDTF">2013-03-20T11:18:00Z</dcterms:modified>
  <cp:revision>14</cp:revision>
  <dc:subject/>
  <dc:title>Chapter 5</dc:title>
</cp:coreProperties>
</file>