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955-920D-4E4E-AAA6-DF846760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E7C-BBC2-48F6-8E9F-EBCC512F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3B4-089E-4817-8B33-C8A29BBB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55B-194F-4D5A-B211-A1AFAE45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6D32-3304-4A5C-9F58-9E8F3DAA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0255-F218-45B2-96F9-D6FF494D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2C5D-0312-4A82-AC5D-282D5D8D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B316-26AA-4AB0-86E9-C77B8D7F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B18B-E513-4DE7-B84B-145298AD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2E61-4E5D-4DF7-B7F4-2C84DAC5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400C-5709-4819-AD7D-6B830BBE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F65-09EB-45B1-B338-0889AB35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5C5F-2A2C-4813-A235-6EDDCCA3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D106-DC28-4B1C-A192-A5E426D2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8BEE-9801-47E8-ABCE-97804BEC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DF7F-9B5D-431C-B480-4FFC50B5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252E-2159-4C0F-8DFA-3F9D0FFA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D40-F58C-41FF-9BEB-A9795AA5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292-75DA-43BC-ACC9-C3467B29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E5C-33EE-498B-9488-DC1DDE90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1B1-FED5-4D34-8375-C8F4D7EE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386-3234-429C-8928-7A5AAFDA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06F-5F8E-4E69-82D4-C7B91F56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F8EC-202E-4FB3-A055-9A45D131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6A36-6BBB-4BFB-8543-50CB9CE541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6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98D3-0158-4928-959F-4ED1AACAA335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Enterprise Ski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332000" y="6165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repared by Rachel Farr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4. Confi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have a strong sense of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self-belief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conviction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about their own business ide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have a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high self-imag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are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positiv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in their approach to business looking for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solutions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rather than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is all helps them to convince inves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5" descr="confidence-784626"/>
          <p:cNvPicPr/>
          <p:nvPr/>
        </p:nvPicPr>
        <p:blipFill>
          <a:blip r:embed="rId1"/>
          <a:stretch/>
        </p:blipFill>
        <p:spPr>
          <a:xfrm>
            <a:off x="6732720" y="189000"/>
            <a:ext cx="22320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5. Risk Ta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are not afraid to take a personal and financial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chanc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in their busin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are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not afraid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of fail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take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“calculated risk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High risks = high re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Low risk = low re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.g. Richard Branson competing against Coke with Virgin Col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6. Decis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have the ability to make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quick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clear decisions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so as not to miss a business opportun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don’t keep changing their mi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take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full responsibility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for the actions &amp; decisions they mak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.g. Eddie Rocket dec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o expand through franchi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5" descr="rjo0788l"/>
          <p:cNvPicPr/>
          <p:nvPr/>
        </p:nvPicPr>
        <p:blipFill>
          <a:blip r:embed="rId1"/>
          <a:stretch/>
        </p:blipFill>
        <p:spPr>
          <a:xfrm>
            <a:off x="6156360" y="4842000"/>
            <a:ext cx="2987640" cy="20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decisive_moment"/>
          <p:cNvPicPr/>
          <p:nvPr/>
        </p:nvPicPr>
        <p:blipFill>
          <a:blip r:embed="rId2"/>
          <a:stretch/>
        </p:blipFill>
        <p:spPr>
          <a:xfrm>
            <a:off x="6948360" y="0"/>
            <a:ext cx="19130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6. Decisiv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epreneurs learn how to make good choice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ationally &amp; quick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follow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e the problem or opportun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all possible solu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advantages &amp; disadvantages of e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ck the solution with the most advanta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2" descr="http://1.bp.blogspot.com/_1CM_PcRl5-Q/SlaIOeOjq5I/AAAAAAAAC18/Oq9I6TUvmgE/s400/decision-making.jpg"/>
          <p:cNvPicPr/>
          <p:nvPr/>
        </p:nvPicPr>
        <p:blipFill>
          <a:blip r:embed="rId1"/>
          <a:stretch/>
        </p:blipFill>
        <p:spPr>
          <a:xfrm>
            <a:off x="7164360" y="5135400"/>
            <a:ext cx="1584360" cy="1256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t0.gstatic.com/images?q=tbn:ANd9GcQ6KetUyNSqBAhEzcxaSMrNnCs6jUYqkESrfOzpt3efbopor10&amp;t=1&amp;usg=__AISuDKfsoRn0D1MHAnOJ1PmlWUw="/>
          <p:cNvPicPr/>
          <p:nvPr/>
        </p:nvPicPr>
        <p:blipFill>
          <a:blip r:embed="rId2"/>
          <a:stretch/>
        </p:blipFill>
        <p:spPr>
          <a:xfrm>
            <a:off x="7093080" y="115920"/>
            <a:ext cx="181116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7. Realis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epreneurs see situations as they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ally ar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not as they might like them to 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realise when things are going wrong and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o not fool themselve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o thinking otherwi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Recap and 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What is a skil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n what ways and in what situations can a person be enterpris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List and explain the skills of an enterprising per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Tahoma"/>
              </a:rPr>
              <a:t>Ski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s something that you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learn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over time with plenty of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practi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.g. reading, writing, listening, communicating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handspiano"/>
          <p:cNvPicPr/>
          <p:nvPr/>
        </p:nvPicPr>
        <p:blipFill>
          <a:blip r:embed="rId1"/>
          <a:stretch/>
        </p:blipFill>
        <p:spPr>
          <a:xfrm>
            <a:off x="5410080" y="4343400"/>
            <a:ext cx="350856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BugEyedManReadingRedBook1"/>
          <p:cNvPicPr/>
          <p:nvPr/>
        </p:nvPicPr>
        <p:blipFill>
          <a:blip r:embed="rId2"/>
          <a:stretch/>
        </p:blipFill>
        <p:spPr>
          <a:xfrm>
            <a:off x="4724280" y="152280"/>
            <a:ext cx="37148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terpr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201780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uman abilit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b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nova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a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lif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are willing to do something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ew &amp; challeng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the possible risk of fail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nterprising person is dynamic, hardworking and motiv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ou can be enterprising i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me: DIY home improv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isure: do a sponsored w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ol: Greenschools, mini-company, fundra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: Tidy Tow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vernment: Create jobs, reduce was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: Intrapreneurship, good customer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iness: new ideas, problem solv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Tahoma"/>
              </a:rPr>
              <a:t>Enterprise Skill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Motiv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ndepen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nnovative/cre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Confi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Risk Ta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Deci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Real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1. Motiva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Will 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push themselves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to achieve their go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are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determined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to do we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thrive on the challenge to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succeed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.g. When Mary was made redundant she decided to start her own busin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pic-motivated"/>
          <p:cNvPicPr/>
          <p:nvPr/>
        </p:nvPicPr>
        <p:blipFill>
          <a:blip r:embed="rId1"/>
          <a:stretch/>
        </p:blipFill>
        <p:spPr>
          <a:xfrm>
            <a:off x="5940360" y="189000"/>
            <a:ext cx="28576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2. Indepen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ntrepreneurs like to be in charge/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control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of the situ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like working for themsel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 don’t like being told what to 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 can rely on themselves and don’t need other people to motivate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3. Innovative/crea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nt are good at thinking of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new ideas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are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creativ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and constantly looking for ways to improve their busin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can spot an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opportunity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(gap) in the market and fill the nich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7" descr="bodyshop"/>
          <p:cNvPicPr/>
          <p:nvPr/>
        </p:nvPicPr>
        <p:blipFill>
          <a:blip r:embed="rId1"/>
          <a:stretch/>
        </p:blipFill>
        <p:spPr>
          <a:xfrm>
            <a:off x="6732720" y="115920"/>
            <a:ext cx="224136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think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utside the bo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is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the fu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.g. Anita Roddick set up the Body Shop as she felt there was a need for cosmetics not tested on anim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She also pioneered Fair Tra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7" descr="bodyshop"/>
          <p:cNvPicPr/>
          <p:nvPr/>
        </p:nvPicPr>
        <p:blipFill>
          <a:blip r:embed="rId1"/>
          <a:stretch/>
        </p:blipFill>
        <p:spPr>
          <a:xfrm>
            <a:off x="6732720" y="115920"/>
            <a:ext cx="224136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9:13:15Z</dcterms:created>
  <dc:creator>Rachel</dc:creator>
  <dc:description/>
  <dc:language>en-US</dc:language>
  <cp:lastModifiedBy>Siobhan O'Sullivan</cp:lastModifiedBy>
  <dcterms:modified xsi:type="dcterms:W3CDTF">2013-03-20T11:13:14Z</dcterms:modified>
  <cp:revision>19</cp:revision>
  <dc:subject/>
  <dc:title>Chapter 3</dc:title>
</cp:coreProperties>
</file>