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D6D48-195C-4661-93BD-DE51AD575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2236D-276D-4D8D-A5C2-25D17248B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92222-E44E-4008-8390-3EDFB32A3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FA78A-3578-426E-9C18-4F2C16B3F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01424-F942-4428-97F6-C134A1BCC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CE2E6-EA27-4155-9C9C-267414991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553B5-E93A-4EE6-98B7-7A3FB8DCB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A3AC2-8A2C-40A1-96CD-234690D7E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FF706-32CF-454D-9186-6EE605F58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86226-7C97-4BB9-8BFD-57066591F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8058D-1350-4FAE-8FB6-2EE6DFBFD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F5CF2-B5E7-4B1E-8B37-1F0DFC192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62FDF-B466-4A83-BE03-4146DFC7C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CA7FA-00B0-4510-853F-F346AEEDD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C2C93-05D5-4622-BD02-F4C4E44B3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5A338-2573-4FCE-9542-889748B7D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D351F-938F-4746-BFC1-835FB7539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FD20C-F8E1-4428-BF01-CA2F57EC2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A32F4-147B-454C-86CB-5D8749F7B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73D62-2BD9-4D4D-9979-A166BA2D7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78BC4-8934-492B-8BD3-5CE1086EA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D5B4D-7117-4AB6-8493-16E1D73BD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E020A-925B-4E18-AD91-28AC935E3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776AF-A566-477F-A2AC-20F29E14F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648D-1CC3-427C-A1D0-92F445922C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0FD9-0C36-4C61-8DCF-37F46D007D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omic Sans MS"/>
              </a:rPr>
              <a:t>Community Development</a:t>
            </a:r>
            <a:endParaRPr b="0" lang="en-US" sz="2800" spc="-1" strike="noStrike">
              <a:solidFill>
                <a:srgbClr val="000000"/>
              </a:solidFill>
              <a:latin typeface="Comic Sans MS"/>
            </a:endParaRPr>
          </a:p>
        </p:txBody>
      </p:sp>
      <p:sp>
        <p:nvSpPr>
          <p:cNvPr id="153" name="TextBox 5"/>
          <p:cNvSpPr/>
          <p:nvPr/>
        </p:nvSpPr>
        <p:spPr>
          <a:xfrm>
            <a:off x="1692360" y="6381720"/>
            <a:ext cx="59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omic Sans MS"/>
              </a:rPr>
              <a:t>Prepared by Rachel Farrel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Distinguish between</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Community Enterprise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amp;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State Enterpris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Comic Sans MS"/>
              </a:rPr>
              <a:t>Community Enterprise</a:t>
            </a:r>
            <a:r>
              <a:rPr b="0" lang="en-IE"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9" name="PlaceHolder 2"/>
          <p:cNvSpPr>
            <a:spLocks noGrp="1"/>
          </p:cNvSpPr>
          <p:nvPr>
            <p:ph/>
          </p:nvPr>
        </p:nvSpPr>
        <p:spPr>
          <a:xfrm>
            <a:off x="323640" y="1828800"/>
            <a:ext cx="8057880" cy="3657600"/>
          </a:xfrm>
          <a:prstGeom prst="rect">
            <a:avLst/>
          </a:prstGeom>
          <a:noFill/>
          <a:ln w="0">
            <a:noFill/>
          </a:ln>
        </p:spPr>
        <p:txBody>
          <a:bodyPr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Is when groups of people help themselves and their communities to set up new enterprises, schemes or projects in an effort to improve employment and the local social and economic infrastructure of their area.</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Eg. </a:t>
            </a:r>
            <a:r>
              <a:rPr b="0" lang="en-GB" sz="3200" spc="-1" strike="noStrike">
                <a:solidFill>
                  <a:srgbClr val="000000"/>
                </a:solidFill>
                <a:latin typeface="Comic Sans MS"/>
              </a:rPr>
              <a:t>A club or youth training programm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166" dur="500"/>
                                        <p:tgtEl>
                                          <p:spTgt spid="169">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71"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Comic Sans MS"/>
              </a:rPr>
              <a:t>State Enterprise</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Is an organisation owned, run &amp; controlled by the governmen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 </a:t>
            </a:r>
            <a:r>
              <a:rPr b="0" lang="en-IE" sz="3200" spc="-1" strike="noStrike">
                <a:solidFill>
                  <a:srgbClr val="000000"/>
                </a:solidFill>
                <a:latin typeface="Comic Sans MS"/>
              </a:rPr>
              <a:t>semi-state-bodie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The government is involved in these enterprise because they are essential or too costly for the private sector.</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Eg. An Post, ESB</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178" dur="500"/>
                                        <p:tgtEl>
                                          <p:spTgt spid="171">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183" dur="500"/>
                                        <p:tgtEl>
                                          <p:spTgt spid="171">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188" dur="500"/>
                                        <p:tgtEl>
                                          <p:spTgt spid="171">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193"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Comic Sans MS"/>
              </a:rPr>
              <a:t>Why is Community Development needed?</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anchor="t">
            <a:normAutofit fontScale="90000"/>
          </a:bodyPr>
          <a:p>
            <a:pPr marL="548280" indent="-5482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Unemployment</a:t>
            </a:r>
            <a:endParaRPr b="0" lang="en-US" sz="3200" spc="-1" strike="noStrike">
              <a:solidFill>
                <a:srgbClr val="000000"/>
              </a:solidFill>
              <a:latin typeface="Comic Sans MS"/>
            </a:endParaRPr>
          </a:p>
          <a:p>
            <a:pPr marL="548280" indent="-5482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Lack of resources</a:t>
            </a:r>
            <a:endParaRPr b="0" lang="en-US" sz="3200" spc="-1" strike="noStrike">
              <a:solidFill>
                <a:srgbClr val="000000"/>
              </a:solidFill>
              <a:latin typeface="Comic Sans MS"/>
            </a:endParaRPr>
          </a:p>
          <a:p>
            <a:pPr marL="548280" indent="-5482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Poor infrastructure</a:t>
            </a:r>
            <a:endParaRPr b="0" lang="en-US" sz="3200" spc="-1" strike="noStrike">
              <a:solidFill>
                <a:srgbClr val="000000"/>
              </a:solidFill>
              <a:latin typeface="Comic Sans MS"/>
            </a:endParaRPr>
          </a:p>
          <a:p>
            <a:pPr marL="548280" indent="-5482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Poor image/reputation</a:t>
            </a:r>
            <a:endParaRPr b="0" lang="en-US" sz="3200" spc="-1" strike="noStrike">
              <a:solidFill>
                <a:srgbClr val="000000"/>
              </a:solidFill>
              <a:latin typeface="Comic Sans MS"/>
            </a:endParaRPr>
          </a:p>
          <a:p>
            <a:pPr marL="548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48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Comic Sans MS"/>
              </a:rPr>
              <a:t>Use the above as headings and write a few sentences about eac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Comic Sans MS"/>
              </a:rPr>
              <a:t>Community Development Organisations</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FA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County Enterprise Boards (CEB)</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Area Partnership Compan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Leader 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10920" y="189000"/>
            <a:ext cx="687060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Comic Sans MS"/>
              </a:rPr>
              <a:t>FAS </a:t>
            </a:r>
            <a:br>
              <a:rPr sz="4000"/>
            </a:br>
            <a:endParaRPr b="0" lang="en-US" sz="4000" spc="-1" strike="noStrike">
              <a:solidFill>
                <a:srgbClr val="000000"/>
              </a:solidFill>
              <a:latin typeface="Comic Sans MS"/>
            </a:endParaRPr>
          </a:p>
        </p:txBody>
      </p:sp>
      <p:sp>
        <p:nvSpPr>
          <p:cNvPr id="157" name="PlaceHolder 2"/>
          <p:cNvSpPr>
            <a:spLocks noGrp="1"/>
          </p:cNvSpPr>
          <p:nvPr>
            <p:ph/>
          </p:nvPr>
        </p:nvSpPr>
        <p:spPr>
          <a:xfrm>
            <a:off x="685800" y="1628280"/>
            <a:ext cx="7696080" cy="42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Comic Sans MS"/>
              </a:rPr>
              <a:t>1. Train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Provide training of skilled personnel for industry eg. Welder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Comic Sans MS"/>
              </a:rPr>
              <a:t>2. Apprenticeships &amp; Mentor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For people who wish to learn a trade/craf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             </a:t>
            </a:r>
            <a:r>
              <a:rPr b="0" lang="en-IE" sz="3200" spc="-1" strike="noStrike">
                <a:solidFill>
                  <a:srgbClr val="000000"/>
                </a:solidFill>
                <a:latin typeface="Comic Sans MS"/>
              </a:rPr>
              <a:t>Eg. Plumbe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 dur="500"/>
                                        <p:tgtEl>
                                          <p:spTgt spid="15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2" dur="500"/>
                                        <p:tgtEl>
                                          <p:spTgt spid="15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7" dur="500"/>
                                        <p:tgtEl>
                                          <p:spTgt spid="157">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22" dur="500"/>
                                        <p:tgtEl>
                                          <p:spTgt spid="157">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27"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85800" y="549360"/>
            <a:ext cx="7696080" cy="4937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Comic Sans MS"/>
              </a:rPr>
              <a:t>3. Recruitment Servi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They help match job-seekers people to suitable job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Comic Sans MS"/>
              </a:rPr>
              <a:t>4. Community Enterprise Program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Provide advise, training &amp; grants for business start-up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34" dur="500"/>
                                        <p:tgtEl>
                                          <p:spTgt spid="158">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39" dur="500"/>
                                        <p:tgtEl>
                                          <p:spTgt spid="158">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58">
                                            <p:txEl>
                                              <p:pRg st="3" end="3"/>
                                            </p:txEl>
                                          </p:spTgt>
                                        </p:tgtEl>
                                        <p:attrNameLst>
                                          <p:attrName>style.visibility</p:attrName>
                                        </p:attrNameLst>
                                      </p:cBhvr>
                                      <p:to>
                                        <p:strVal val="visible"/>
                                      </p:to>
                                    </p:set>
                                    <p:animEffect filter="blinds(horizontal)" transition="in">
                                      <p:cBhvr additive="repl">
                                        <p:cTn id="44" dur="500"/>
                                        <p:tgtEl>
                                          <p:spTgt spid="158">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58">
                                            <p:txEl>
                                              <p:pRg st="4" end="4"/>
                                            </p:txEl>
                                          </p:spTgt>
                                        </p:tgtEl>
                                        <p:attrNameLst>
                                          <p:attrName>style.visibility</p:attrName>
                                        </p:attrNameLst>
                                      </p:cBhvr>
                                      <p:to>
                                        <p:strVal val="visible"/>
                                      </p:to>
                                    </p:set>
                                    <p:animEffect filter="blinds(horizontal)" transition="in">
                                      <p:cBhvr additive="repl">
                                        <p:cTn id="49"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Comic Sans MS"/>
              </a:rPr>
              <a:t>County Enterprise Boards</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lnSpc>
                <a:spcPct val="90000"/>
              </a:lnSpc>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Comic Sans MS"/>
              </a:rPr>
              <a:t>Provide information &amp; advice</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omic Sans MS"/>
              </a:rPr>
              <a:t>Specific to anyone setting up or expanding a </a:t>
            </a:r>
            <a:r>
              <a:rPr b="0" lang="en-IE" sz="2800" spc="-1" strike="noStrike" u="sng">
                <a:solidFill>
                  <a:srgbClr val="000000"/>
                </a:solidFill>
                <a:uFillTx/>
                <a:latin typeface="Comic Sans MS"/>
              </a:rPr>
              <a:t>small business in their county.</a:t>
            </a:r>
            <a:endParaRPr b="0"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Comic Sans MS"/>
              </a:rPr>
              <a:t>2. Provides grants</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omic Sans MS"/>
              </a:rPr>
              <a:t>For feasibility studies and capital costs (equip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56" dur="500"/>
                                        <p:tgtEl>
                                          <p:spTgt spid="160">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61" dur="500"/>
                                        <p:tgtEl>
                                          <p:spTgt spid="160">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60">
                                            <p:txEl>
                                              <p:pRg st="3" end="3"/>
                                            </p:txEl>
                                          </p:spTgt>
                                        </p:tgtEl>
                                        <p:attrNameLst>
                                          <p:attrName>style.visibility</p:attrName>
                                        </p:attrNameLst>
                                      </p:cBhvr>
                                      <p:to>
                                        <p:strVal val="visible"/>
                                      </p:to>
                                    </p:set>
                                    <p:animEffect filter="blinds(horizontal)" transition="in">
                                      <p:cBhvr additive="repl">
                                        <p:cTn id="66" dur="500"/>
                                        <p:tgtEl>
                                          <p:spTgt spid="160">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60">
                                            <p:txEl>
                                              <p:pRg st="4" end="4"/>
                                            </p:txEl>
                                          </p:spTgt>
                                        </p:tgtEl>
                                        <p:attrNameLst>
                                          <p:attrName>style.visibility</p:attrName>
                                        </p:attrNameLst>
                                      </p:cBhvr>
                                      <p:to>
                                        <p:strVal val="visible"/>
                                      </p:to>
                                    </p:set>
                                    <p:animEffect filter="blinds(horizontal)" transition="in">
                                      <p:cBhvr additive="repl">
                                        <p:cTn id="71"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685800" y="691920"/>
            <a:ext cx="7696080" cy="479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Comic Sans MS"/>
              </a:rPr>
              <a:t>3. Provides mentor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Advises &amp; guides people who are involved in </a:t>
            </a:r>
            <a:r>
              <a:rPr b="0" lang="en-IE" sz="3200" spc="-1" strike="noStrike" u="sng">
                <a:solidFill>
                  <a:srgbClr val="000000"/>
                </a:solidFill>
                <a:uFillTx/>
                <a:latin typeface="Comic Sans MS"/>
              </a:rPr>
              <a:t>local commercial enterpris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Comic Sans MS"/>
              </a:rPr>
              <a:t>4. Provides trai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Offers a range of business &amp; management cours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78" dur="500"/>
                                        <p:tgtEl>
                                          <p:spTgt spid="161">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83" dur="500"/>
                                        <p:tgtEl>
                                          <p:spTgt spid="161">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88" dur="500"/>
                                        <p:tgtEl>
                                          <p:spTgt spid="161">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93"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0000"/>
                </a:solidFill>
                <a:latin typeface="Comic Sans MS"/>
              </a:rPr>
              <a:t>Area Partnership Companies</a:t>
            </a:r>
            <a:endParaRPr b="0" lang="en-US" sz="3600" spc="-1" strike="noStrike">
              <a:solidFill>
                <a:srgbClr val="000000"/>
              </a:solidFill>
              <a:latin typeface="Comic Sans MS"/>
            </a:endParaRPr>
          </a:p>
        </p:txBody>
      </p:sp>
      <p:sp>
        <p:nvSpPr>
          <p:cNvPr id="163" name="PlaceHolder 2"/>
          <p:cNvSpPr>
            <a:spLocks noGrp="1"/>
          </p:cNvSpPr>
          <p:nvPr>
            <p:ph/>
          </p:nvPr>
        </p:nvSpPr>
        <p:spPr>
          <a:xfrm>
            <a:off x="685800" y="1412640"/>
            <a:ext cx="7696080" cy="407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Comic Sans MS"/>
              </a:rPr>
              <a:t>1. Promote job creation &amp; enterpris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omic Sans MS"/>
              </a:rPr>
              <a:t>In designated </a:t>
            </a:r>
            <a:r>
              <a:rPr b="0" lang="en-IE" sz="2800" spc="-1" strike="noStrike" u="sng">
                <a:solidFill>
                  <a:srgbClr val="000000"/>
                </a:solidFill>
                <a:uFillTx/>
                <a:latin typeface="Comic Sans MS"/>
              </a:rPr>
              <a:t>disadvantaged towns</a:t>
            </a:r>
            <a:r>
              <a:rPr b="0" lang="en-IE" sz="2800" spc="-1" strike="noStrike">
                <a:solidFill>
                  <a:srgbClr val="000000"/>
                </a:solidFill>
                <a:latin typeface="Comic Sans MS"/>
              </a:rPr>
              <a:t> especially amongst the long term unemploy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Comic Sans MS"/>
              </a:rPr>
              <a:t>2. Set up partnerships</a:t>
            </a:r>
            <a:r>
              <a:rPr b="0" lang="en-IE"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omic Sans MS"/>
              </a:rPr>
              <a:t>Between local employers, trade unions, county counsellors and state agenci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00" dur="500"/>
                                        <p:tgtEl>
                                          <p:spTgt spid="163">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105" dur="500"/>
                                        <p:tgtEl>
                                          <p:spTgt spid="163">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110" dur="500"/>
                                        <p:tgtEl>
                                          <p:spTgt spid="163">
                                            <p:txEl>
                                              <p:pRg st="3" end="3"/>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115"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85800" y="980640"/>
            <a:ext cx="7696080" cy="450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Comic Sans MS"/>
              </a:rPr>
              <a:t>3. Help prepare development pla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Which are similar to business pl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Comic Sans MS"/>
              </a:rPr>
              <a:t>4. Provide training, grants &amp; mentor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For recruitment and enterprise skil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22" dur="500"/>
                                        <p:tgtEl>
                                          <p:spTgt spid="164">
                                            <p:txEl>
                                              <p:pRg st="0" end="0"/>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127" dur="500"/>
                                        <p:tgtEl>
                                          <p:spTgt spid="164">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132" dur="500"/>
                                        <p:tgtEl>
                                          <p:spTgt spid="164">
                                            <p:txEl>
                                              <p:pRg st="4" end="4"/>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137"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Comic Sans MS"/>
              </a:rPr>
              <a:t>Leader</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Is an </a:t>
            </a:r>
            <a:r>
              <a:rPr b="0" lang="en-IE" sz="3200" spc="-1" strike="noStrike" u="sng">
                <a:solidFill>
                  <a:srgbClr val="000000"/>
                </a:solidFill>
                <a:uFillTx/>
                <a:latin typeface="Comic Sans MS"/>
              </a:rPr>
              <a:t>EU funded</a:t>
            </a:r>
            <a:r>
              <a:rPr b="0" lang="en-IE" sz="3200" spc="-1" strike="noStrike">
                <a:solidFill>
                  <a:srgbClr val="000000"/>
                </a:solidFill>
                <a:latin typeface="Comic Sans MS"/>
              </a:rPr>
              <a:t> sche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Set up to help </a:t>
            </a:r>
            <a:r>
              <a:rPr b="0" lang="en-IE" sz="3200" spc="-1" strike="noStrike" u="sng">
                <a:solidFill>
                  <a:srgbClr val="000000"/>
                </a:solidFill>
                <a:uFillTx/>
                <a:latin typeface="Comic Sans MS"/>
              </a:rPr>
              <a:t>rural communities</a:t>
            </a:r>
            <a:r>
              <a:rPr b="0" lang="en-IE" sz="3200" spc="-1" strike="noStrike">
                <a:solidFill>
                  <a:srgbClr val="000000"/>
                </a:solidFill>
                <a:latin typeface="Comic Sans MS"/>
              </a:rPr>
              <a:t> (outside Dublin) according to their own priorit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They do this b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omic Sans MS"/>
              </a:rPr>
              <a:t>Training, advice, gran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44" dur="500"/>
                                        <p:tgtEl>
                                          <p:spTgt spid="166">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49" dur="500"/>
                                        <p:tgtEl>
                                          <p:spTgt spid="166">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154" dur="500"/>
                                        <p:tgtEl>
                                          <p:spTgt spid="166">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159"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09:49:16Z</dcterms:created>
  <dc:creator>Mercy School Kilbeggan</dc:creator>
  <dc:description/>
  <dc:language>en-US</dc:language>
  <cp:lastModifiedBy>Siobhan O'Sullivan</cp:lastModifiedBy>
  <dcterms:modified xsi:type="dcterms:W3CDTF">2013-03-20T10:51:29Z</dcterms:modified>
  <cp:revision>6</cp:revision>
  <dc:subject/>
  <dc:title>Chapter 20</dc:title>
</cp:coreProperties>
</file>