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3F521-3E05-4F04-8BBC-34982ABAA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4BC0A-10B9-4C74-9301-CE9C89F22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6AD70-BD25-49E2-AC76-B805CC318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C2431-FEAB-410E-8191-416E3EF07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D38B0-0303-48EA-AAA3-C41F157BE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CB342-6484-435A-B1EE-DBAC3FAEC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5E9A6-1D96-4643-8DC2-29DBB4D48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D5B92-9DE7-4867-AA97-A90C5E15F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0A8B6-F206-47D5-B984-412C0C891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934EE-7B0C-458C-B646-B40671C0F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1860F-8D58-4AAB-9C5F-BE280C9E8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FAE3D-7722-440C-B2FA-70AF5AC0C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9E55-B91E-4AC3-868D-9745CFE2DA76}"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33360"/>
            <a:ext cx="7772400" cy="640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Calibri"/>
              </a:rPr>
              <a:t>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4840" y="494136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898989"/>
                </a:solidFill>
                <a:latin typeface="Calibri"/>
              </a:rPr>
              <a:t>Helping Business Awareness in Schools </a:t>
            </a:r>
            <a:endParaRPr b="0" lang="en-US" sz="3200" spc="-1" strike="noStrike">
              <a:solidFill>
                <a:srgbClr val="000000"/>
              </a:solidFill>
              <a:latin typeface="Calibri"/>
            </a:endParaRPr>
          </a:p>
        </p:txBody>
      </p:sp>
      <p:pic>
        <p:nvPicPr>
          <p:cNvPr id="43" name="Picture 2" descr=""/>
          <p:cNvPicPr/>
          <p:nvPr/>
        </p:nvPicPr>
        <p:blipFill>
          <a:blip r:embed="rId1"/>
          <a:stretch/>
        </p:blipFill>
        <p:spPr>
          <a:xfrm>
            <a:off x="2627280" y="476280"/>
            <a:ext cx="3562560" cy="438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2060"/>
                </a:solidFill>
                <a:latin typeface="Calibri"/>
              </a:rPr>
              <a:t>Aim for the studen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n a small enterprise.</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chieve the target.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Experience the how the money raised impacts the children helped.</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Increase the awareness that their work can make a difference to the lives of people less fortunate than themselves.</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Possible chance to volunteer on the Alton towers trip.</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2060"/>
                </a:solidFill>
                <a:latin typeface="Calibri"/>
              </a:rPr>
              <a:t>How The Bubblegum Club Will Help</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We have been helping children for 20 years and have wealth of fundraising and business experience to pass onto the students.  We will:</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Organise speakers to visit the school – either volunteers from the charity or children who have experienced the charity</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Give fundraising ideas and PR tip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Give direction to students and teachers if required in how to manage their fundraising – tips on minute taking, setting up committees etc</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2060"/>
                </a:solidFill>
                <a:latin typeface="Calibri"/>
              </a:rPr>
              <a:t>Student Involvement in the Event</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Schools will receive a certificate and will be sent a postcard from the children on the trip.</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hotos and stories will be posted on our website and facebook pag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Chance to help on the Alton Towers trip.</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ll the children and doctors, helpers etc on the trip will be made aware of where the funds have come fro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2060"/>
                </a:solidFill>
                <a:latin typeface="Calibri"/>
              </a:rPr>
              <a:t>Bubblegum Club Detail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ontact founder and CEO: Peter Harris on 086 2628888 or </a:t>
            </a:r>
            <a:r>
              <a:rPr b="1" lang="en-IE" sz="3000" spc="-1" strike="noStrike">
                <a:solidFill>
                  <a:srgbClr val="000000"/>
                </a:solidFill>
                <a:latin typeface="Calibri"/>
              </a:rPr>
              <a:t>peter@bubblegumclub.ie</a:t>
            </a:r>
            <a:r>
              <a:rPr b="0" lang="en-IE" sz="3000" spc="-1" strike="noStrike">
                <a:solidFill>
                  <a:srgbClr val="000000"/>
                </a:solidFill>
                <a:latin typeface="Calibri"/>
              </a:rPr>
              <a:t> </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Office and Charity Shop at:</a:t>
            </a:r>
            <a:endParaRPr b="0" lang="en-US" sz="3000" spc="-1" strike="noStrike">
              <a:solidFill>
                <a:srgbClr val="000000"/>
              </a:solidFill>
              <a:latin typeface="Calibri"/>
            </a:endParaRPr>
          </a:p>
          <a:p>
            <a:pPr marL="335880" indent="-335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 </a:t>
            </a:r>
            <a:r>
              <a:rPr b="0" lang="en-IE" sz="3000" spc="-1" strike="noStrike">
                <a:solidFill>
                  <a:srgbClr val="000000"/>
                </a:solidFill>
                <a:latin typeface="Calibri"/>
              </a:rPr>
              <a:t>69c Georges St Upper, Dun Laoghaire, Co. Dublin</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www.bubblegumclub.ie and https://www.facebook.com/thebubblegumclub</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Registered Charity Number CHY 12012</a:t>
            </a:r>
            <a:r>
              <a:rPr b="1" lang="en-GB" sz="3000" spc="-1" strike="noStrike">
                <a:solidFill>
                  <a:srgbClr val="000000"/>
                </a:solidFill>
                <a:latin typeface="Calibri"/>
              </a:rPr>
              <a:t> </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060"/>
                </a:solidFill>
                <a:latin typeface="Calibri"/>
              </a:rPr>
              <a:t>Give your students a chance to be part of a sick child’s healing process – and let them do this in real time</a:t>
            </a:r>
            <a:endParaRPr b="0" lang="en-US" sz="4800" spc="-1" strike="noStrike">
              <a:solidFill>
                <a:srgbClr val="000000"/>
              </a:solidFill>
              <a:latin typeface="Calibri"/>
            </a:endParaRPr>
          </a:p>
          <a:p>
            <a:pPr marL="343080" indent="-343080">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060"/>
                </a:solidFill>
                <a:latin typeface="Calibri"/>
              </a:rPr>
              <a:t>Learn Business Awareness by fundraising for the Bubblegum Club’s Alton Towers trip for Sick Children</a:t>
            </a:r>
            <a:endParaRPr b="0" lang="en-US" sz="4800" spc="-1" strike="noStrike">
              <a:solidFill>
                <a:srgbClr val="000000"/>
              </a:solidFill>
              <a:latin typeface="Calibri"/>
            </a:endParaRPr>
          </a:p>
          <a:p>
            <a:pPr marL="343080" indent="-343080">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2060"/>
                </a:solidFill>
                <a:latin typeface="Calibri"/>
              </a:rPr>
              <a:t>The Bubblegum Club</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The Bubblegum Club is an Irish registered charity, whose mission is to provide extraordinary experiences for extraordinary children, many of whom suffer from life threatening illness, long term debilitating illness or are disadvantaged in some other way. </a:t>
            </a:r>
            <a:endParaRPr b="0" lang="en-US" sz="28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2060"/>
                </a:solidFill>
                <a:latin typeface="Calibri"/>
              </a:rPr>
              <a:t>Overview</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Provides professional care in a fun environment – giving kids a great boost, but also providing a well-earned break for the parents, family and carer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Bubblegum Club was founded in 1994 by Peter Harris and has now helped over 20,000 childr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Staffed by volunteers – a mixture of nurses, doctors, professional careers, business and professional people and suitably vetted helpers. We have developed great experience and supportive contacts which enable us to put on a fantastic show quickly, efficiently and cost effectivel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Why Do It? </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e sick child, the anticipation, the participation and the reminiscing  about the experience of events like the Bubblegum Alton Towers trip helps take their mind off the everyday fear, pain and difficulties that they live with.</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sick children, going on trips like this with other sick children frees them the fear of being differe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2060"/>
                </a:solidFill>
                <a:latin typeface="Calibri"/>
              </a:rPr>
              <a:t>Bubblegum Club Events and Special Days</a:t>
            </a: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up events include the Ski Trip, Alton Towers, the Helicopter Garden Party and the spectacular Winter Wonderland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e-off days for children with exceptional requirements – every one unique and probably the last defining day in that child’s lif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se special days are not high-profile and publicity is often the last thing that is sought so you may not be aware of them, but they are without doubt the difference between The Bubblegum Club and many other charities – the children don’t just come first – they are the only thing that mat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Business Awareness in School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raising can be treated as a small enterprise with a very measurable targ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has the added advantage that the students can get the real life interaction with the children that their fundraising efforts are hel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Fundraising as a Busines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Research the charity and fundraising possibil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ablish targe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earch and implement the running of committees</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inute taking</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hairing meetings</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Ownership of agenda items </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rience Financial responsibilities first hand</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Open bank account</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ack money</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surance requirements for fundraising events</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Costing of fundraising eg tshirts, printing, getting discounts etc</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Plan donations to offset costs</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c Relations and Digital Marketing</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Organise coverage in local newspapers and radio</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earch and organise social media to promote fundraising events</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nt Management</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ndraising events  </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ordination of roster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0T12:50:43Z</dcterms:created>
  <dc:creator>Sarah</dc:creator>
  <dc:description/>
  <dc:language>en-US</dc:language>
  <cp:lastModifiedBy>Siobhan O'Sullivan</cp:lastModifiedBy>
  <dcterms:modified xsi:type="dcterms:W3CDTF">2013-04-19T13:03:28Z</dcterms:modified>
  <cp:revision>24</cp:revision>
  <dc:subject/>
  <dc:title>PowerPoint Presentation</dc:title>
</cp:coreProperties>
</file>